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  <p:custShowLst>
    <p:custShow name="Custom Show 1" id="0">
      <p:sldLst>
        <p:sld r:id="rId9"/>
        <p:sld r:id="rId10"/>
        <p:sld r:id="rId11"/>
        <p:sld r:id="rId12"/>
        <p:sld r:id="rId13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6AE0-9FE9-4F98-83F5-186BAD6F8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5F4-CFB9-470A-A69D-0CCDCE288F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5851-174C-44F3-97A0-18E9A61ED4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CE0-CC5D-420A-A231-496652A9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F056-31E4-44CB-AC1D-9B60791F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518-3333-4ED2-9392-1A844E85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862A-FE11-424C-9E7E-CA17D172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6E45-16BC-4BD9-B91C-2C4A693F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F0EB-1D05-4414-8DE4-C02DC8DD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89BD-C177-4EE4-9BC6-EA30DED1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123D-D4EF-437E-9BA3-10D477D2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99E-CCC2-41C1-A494-762D05AD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D925-190D-42A4-8986-7E163EF1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1D3A-8DBF-4A8C-A597-6E272113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A421-5EE7-4499-83DF-51A04B4C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607-2523-4C86-8ED8-59A26163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C19B-0FD4-4072-BA54-4A31AAB1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2FD7-2B24-4144-8AF5-D3B670BA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360F-811D-4A14-8541-A22F1D31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CC36-1849-4C8D-A774-F0C0F5A3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E47BB-3E4C-419A-A2D2-EA4AFF2A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D91B1-48A6-4882-80A6-81073392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E7F65-E100-4408-AFCD-FB3DC8B4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11B17-8544-451D-90DC-6028D1C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2E3C-152D-4F94-8CD7-366644A7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9F79-5D8C-40ED-9AF4-764E1E70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4F66-DFD7-4AC6-8E88-055C7A52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AED3E-ACFC-4D9A-A93A-DEA3F4B7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E54F-BA77-4EAC-9FD5-C8389438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0B4B-3667-4BD8-83D9-BFB52F4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83968-86D0-49B4-8A3C-8717D34D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7C78-4C1F-4995-A80E-994068AC5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F481-2646-4AC6-8678-65C4566A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1DC40-EC75-4725-B169-0785F435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8F66D-2226-44B6-B691-2045BB5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99762-A714-417A-8537-E175DAA7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122-148E-4A06-A7DA-A4D116EC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ECE39-C92E-4571-AD84-CA3ACE07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1D35-0BE1-4811-B155-22217DF0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A6508-6915-41E8-AB2D-D775ECAE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6829-0BA8-4DFD-95D7-D8077FD9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00F66-CFBB-499C-A650-20A42A5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44DA-558F-46A1-9D8E-DBB18A6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7BA5-45EB-4CCE-A99A-030C3EA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F1171-9BA5-4173-9076-AF934318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3AA29-58D8-4F6D-9ABB-04C0766B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4DE1F-B9A1-47BC-82FE-C21FA781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774-7FEA-4478-AAF3-21D70837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A7441-173D-4D71-86C5-7E316EF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DCCF1-ACBF-40E1-A3F4-316FAF62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A5719-BD5C-48A5-8CFD-311049E0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D0E7C-8A96-4653-B43A-58FE5D91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A7FE5-FC38-4C79-AD24-88B1F23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2BB2-F56A-47D5-B8B5-C64DFDCD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4443D-3AD1-4024-A1D8-B70333C8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514DDF-EE20-4A7A-9504-EBA7819E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71352-F828-400F-8881-3AAA2EE5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DAED5-3390-4640-9AA5-81FA8481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19B4-FD50-48E8-82F1-35861F8B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90EE5-4A70-4F67-9B68-CE1E8BFC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26051-8DEF-4D10-BF4E-E0B358C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CE83-DD93-4824-ACC5-905163B6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84FA8-547E-4FB4-8F4C-C49EC4E9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5E27D-D956-4A66-9DFE-39D401E4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6D3F-39FB-47A2-BE29-4740B4D8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DEBF-EB7B-48F7-A8B8-76E8A2F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2E02-68F5-4AA2-9E41-DB33F56C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57902-5CD0-468F-89CB-6FED81B8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5228C-4460-4FFC-8724-4528B172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DBA-A7EF-4895-ACE0-0B2441C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7473C-95A1-43BE-A0E8-6BBA704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0AB85-F21E-401D-BD52-00641FAC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A2C75-DA92-4461-8921-89D74FAB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DF02-1023-4B37-9854-6A311695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6BA-FA44-4913-8FC6-E127BB8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9416-14EC-47B3-A00C-AEE5D794DDA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DC5A-E010-4838-89BE-A57BB8F85E81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21DA-C1B7-4227-92AF-1DA61A58F1E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0D38-ACA4-4C98-812F-D6C3890BCB7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E846-1110-4667-8D56-F906D8EC3E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1ED3-FC97-43F1-980B-C00FDA9E4C6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Title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16956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7200" y="248400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641b"/>
                </a:solidFill>
                <a:latin typeface="Lucida Sans Unicode"/>
                <a:ea typeface="Calibri"/>
              </a:rPr>
              <a:t>KATE &amp; THE SPIES: THE AMERICAN REVOLUTION</a:t>
            </a:r>
            <a:endParaRPr b="0" lang="en-US" sz="4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5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86" name="MS900431080[1].wav" descr=""/>
          <p:cNvPicPr/>
          <p:nvPr/>
        </p:nvPicPr>
        <p:blipFill>
          <a:blip r:embed="rId3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~PP3347.WAV" descr=""/>
          <p:cNvPicPr/>
          <p:nvPr/>
        </p:nvPicPr>
        <p:blipFill>
          <a:blip r:embed="rId4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http://ecx.images-amazon.com/images/I/51ceVl8XL2L._SS500_.jpg"/>
          <p:cNvPicPr/>
          <p:nvPr/>
        </p:nvPicPr>
        <p:blipFill>
          <a:blip r:embed="rId1"/>
          <a:stretch/>
        </p:blipFill>
        <p:spPr>
          <a:xfrm>
            <a:off x="2400480" y="647640"/>
            <a:ext cx="4762440" cy="4762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C:\Users\Joan Phillips\AppData\Local\Microsoft\Windows\Temporary Internet Files\Content.IE5\D39BL0G0\MP900362858[1].jpg"/>
          <p:cNvPicPr/>
          <p:nvPr/>
        </p:nvPicPr>
        <p:blipFill>
          <a:blip r:embed="rId2"/>
          <a:stretch/>
        </p:blipFill>
        <p:spPr>
          <a:xfrm>
            <a:off x="7162920" y="5794200"/>
            <a:ext cx="1676160" cy="835200"/>
          </a:xfrm>
          <a:prstGeom prst="rect">
            <a:avLst/>
          </a:prstGeom>
          <a:ln w="0">
            <a:noFill/>
          </a:ln>
        </p:spPr>
      </p:pic>
      <p:pic>
        <p:nvPicPr>
          <p:cNvPr id="290" name="~PP1067.WAV" descr=""/>
          <p:cNvPicPr/>
          <p:nvPr/>
        </p:nvPicPr>
        <p:blipFill>
          <a:blip r:embed="rId3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6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304920" y="2133720"/>
            <a:ext cx="8839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o you like history?  If you do then I have the perfect book for you.   It is called </a:t>
            </a:r>
            <a:r>
              <a:rPr b="1" i="1" lang="en-US" sz="2800" spc="-1" strike="noStrike" u="sng">
                <a:solidFill>
                  <a:srgbClr val="eb641b"/>
                </a:solidFill>
                <a:uFillTx/>
                <a:latin typeface="Lucida Sans Unicode"/>
              </a:rPr>
              <a:t>KATE &amp; THE SPIES</a:t>
            </a: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3" name="~PP2656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777240" y="1371600"/>
            <a:ext cx="7579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t is historical fiction. The book takes pla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during the AMERICAN  REVOLUTION.   In 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is book, a girl named Kate is torn betwe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being a Patriot or a Loyali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6" name="~PP312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1"/>
          <p:cNvSpPr/>
          <p:nvPr/>
        </p:nvSpPr>
        <p:spPr>
          <a:xfrm>
            <a:off x="727920" y="1676520"/>
            <a:ext cx="75369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mother and father are loyalists but h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cousins are Patriots. Then her cousin as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her to be a spy. She is confused and do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not know what to 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299" name="~PP2760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1135440" y="762120"/>
            <a:ext cx="64443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If you want to know more about th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Wonderful adventure, you must re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the book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b641b"/>
                </a:solidFill>
                <a:latin typeface="Lucida Sans Unicode"/>
              </a:rPr>
              <a:t>YOU WILL NOT BE DISAPPOIN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Picture 6" descr="C:\Users\Joan Phillips\AppData\Local\Microsoft\Windows\Temporary Internet Files\Content.IE5\D39BL0G0\MP900362858[1].jpg"/>
          <p:cNvPicPr/>
          <p:nvPr/>
        </p:nvPicPr>
        <p:blipFill>
          <a:blip r:embed="rId1"/>
          <a:stretch/>
        </p:blipFill>
        <p:spPr>
          <a:xfrm>
            <a:off x="7162920" y="5032440"/>
            <a:ext cx="1676160" cy="834840"/>
          </a:xfrm>
          <a:prstGeom prst="rect">
            <a:avLst/>
          </a:prstGeom>
          <a:ln w="0">
            <a:noFill/>
          </a:ln>
        </p:spPr>
      </p:pic>
      <p:pic>
        <p:nvPicPr>
          <p:cNvPr id="302" name="~PP3569.WAV" descr=""/>
          <p:cNvPicPr/>
          <p:nvPr/>
        </p:nvPicPr>
        <p:blipFill>
          <a:blip r:embed="rId2"/>
          <a:stretch/>
        </p:blipFill>
        <p:spPr>
          <a:xfrm>
            <a:off x="8702640" y="6416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9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14:36Z</dcterms:created>
  <dc:creator>Joan Phillips</dc:creator>
  <dc:description/>
  <dc:language>en-US</dc:language>
  <cp:lastModifiedBy>Joan Phillips</cp:lastModifiedBy>
  <dcterms:modified xsi:type="dcterms:W3CDTF">2010-09-29T23:43:25Z</dcterms:modified>
  <cp:revision>23</cp:revision>
  <dc:subject/>
  <dc:title>September Book Commercial</dc:title>
</cp:coreProperties>
</file>