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  <p:custShowLst>
    <p:custShow name="Custom Show 1" id="0">
      <p:sldLst>
        <p:sld r:id="rId9"/>
        <p:sld r:id="rId10"/>
        <p:sld r:id="rId11"/>
        <p:sld r:id="rId12"/>
        <p:sld r:id="rId13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989B-10DA-49C4-B82D-2AE355CAD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DA17-5C5A-4A1C-8DE8-B2C66B12B27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DF20-D6D8-4868-89D0-CECDAA4E4F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38E-0CDB-444F-9C23-E37B77B3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E606-0188-49DA-B50F-014ADC17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D651-2D40-4454-AC55-3BD7A014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D258-3AEF-45F8-AFBE-B4994463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3F6B-A3B6-4146-A7A0-9174C9F9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6175-DE75-4DBD-811B-1C4F6BAC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2C5C-025B-4080-A8E5-B166D281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1E9E-4C1D-409B-9680-6678893C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D029-6737-454B-BD97-08B97407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635D-B0D5-4DC6-BFC5-B6FD9271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83D0-5E26-447E-9DC5-A0F8BFEA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BE97-3A9A-4EAE-8838-7E22E754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0DFA-BADE-475B-9BBA-72BE59A8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1CC8-8AF6-4AC2-8C86-A909D36C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4E0E-4759-4874-A4DA-12375A90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6B51-C4AF-43E7-BF99-A0F417CA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1226-5D69-42BD-B350-A810D24C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A4010-76CC-4503-8F07-E0A67DCF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62D30-F932-4B0A-A15D-4215BD0B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F7144-444C-4BAE-BF57-76A8ED7F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5EBA8-CC1D-4B74-9AC2-3DE512A6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C9559-C2B3-43BD-8338-3700D0C8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5C31-FA56-4623-A113-4B2CBBF7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6E6D9-869D-4F0B-86B4-019B1D54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1B643-1A34-4658-9B9F-F3876682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A0F35-F43D-4DCB-82A3-59180872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4927A-9BA3-43CA-A160-018F62CD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C32D8-EBF5-4524-8603-F51611A4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B7CB1-EB19-4EEB-ADC1-BB73A6F3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AFE15-4020-4907-81D0-1373313C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EFF38-E586-4D7C-ABCB-E9D2A67B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AFA56-DEB8-4E3E-98B7-3FFF17B2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AEE19-AA1C-4618-858A-4F0082A5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02F-61F6-499E-B80C-F5C1455BF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EB151-AD18-4ACB-8DA2-F7F80C08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104D2-EE57-4C95-AD15-7AF4149C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5050E-BD5D-4809-A4C1-0AFFEF72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A1920-A0F8-4BF8-9FCD-FA8DA391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B1A58-7FE9-49D7-970D-337499C9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ACE01-0CBB-4F79-B4F3-5F46F73B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153C8-A94B-45DB-92CB-DEBCD9A0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7FB1B-6764-4A20-A768-958D9DA1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C1969-1AB1-468B-8A39-D24A75DC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80CF9-CFDA-4611-979C-ECBE2BAA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B71-0C51-40D1-A8EE-CF576E3C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82AC5-ABE0-4041-B3DE-8D096903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06C68-EF97-4157-A5B2-39CC1C9C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BA467-6B04-45F3-9AF0-4349CB98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CA0FE-80DF-4371-9710-67308D3C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DD6E6-20B9-4397-AB46-20BE6A60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D7D79-023A-491D-9FD7-9885DFC0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03FDA-6C22-4E5F-9773-82080256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1B4C5-95F6-49D4-A47F-CCCE7A4A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98B74-B3F2-4E71-8337-E7109A38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50367-5F00-4FFD-A6A9-A47373CF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99B8-47F5-4B4C-9B3D-D43DB853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BD55A-38F8-4782-B7BF-2866E144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87F62-70D4-4719-A752-7A6707B0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221F2-DAD7-4B1D-942F-9DD4EE4A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009A3-14C4-4C65-8634-96162073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E528F-C050-4753-AB96-C11FD447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01786-88E7-4CC1-ABC5-F939D6FC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1DEBB-5757-4038-9B7C-85433980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2A91A-2C3A-4CEA-950C-DB4897FE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D3FF9-15E2-40D3-B682-9C0F918E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8509D-4B59-40B0-AF5E-B40050C0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38FD-D304-488D-BB8D-EF479168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BE63B-404B-4F55-9F2F-EF3E7B05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18140-9B31-4A0C-B5B8-9ABC38FA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02547-969A-46E3-8FAD-C4236513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0DA1-59E6-4257-9435-026AB688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5B8B-EC84-4174-99A3-888F1283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83AE-D88C-47FB-AD14-F17CF71D523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4764-3C8C-4BA6-97EA-D30B9362BF4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4519-32D2-49ED-A5A1-24BB87CF44D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28BE-D231-4209-B615-7178EBA029C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ADB5-210E-43EF-B0B9-0920108F398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4905-063B-43C4-8E1E-D367086862E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3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6956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457200" y="248400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641b"/>
                </a:solidFill>
                <a:latin typeface="Lucida Sans Unicode"/>
                <a:ea typeface="Calibri"/>
              </a:rPr>
              <a:t>KATE &amp; THE SPIES: THE AMERICAN REVOLUTION</a:t>
            </a:r>
            <a:endParaRPr b="0" lang="en-US" sz="4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85" name="Picture 6" descr="C:\Users\Joan Phillips\AppData\Local\Microsoft\Windows\Temporary Internet Files\Content.IE5\D39BL0G0\MP900362858[1].jpg"/>
          <p:cNvPicPr/>
          <p:nvPr/>
        </p:nvPicPr>
        <p:blipFill>
          <a:blip r:embed="rId2"/>
          <a:stretch/>
        </p:blipFill>
        <p:spPr>
          <a:xfrm>
            <a:off x="7162920" y="5032440"/>
            <a:ext cx="1676160" cy="834840"/>
          </a:xfrm>
          <a:prstGeom prst="rect">
            <a:avLst/>
          </a:prstGeom>
          <a:ln w="0">
            <a:noFill/>
          </a:ln>
        </p:spPr>
      </p:pic>
      <p:pic>
        <p:nvPicPr>
          <p:cNvPr id="286" name="MS900431080[1].wav" descr=""/>
          <p:cNvPicPr/>
          <p:nvPr/>
        </p:nvPicPr>
        <p:blipFill>
          <a:blip r:embed="rId3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~PP3347.WAV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" descr="http://ecx.images-amazon.com/images/I/51ceVl8XL2L._SS500_.jpg"/>
          <p:cNvPicPr/>
          <p:nvPr/>
        </p:nvPicPr>
        <p:blipFill>
          <a:blip r:embed="rId1"/>
          <a:stretch/>
        </p:blipFill>
        <p:spPr>
          <a:xfrm>
            <a:off x="2400480" y="64764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C:\Users\Joan Phillips\AppData\Local\Microsoft\Windows\Temporary Internet Files\Content.IE5\D39BL0G0\MP900362858[1].jpg"/>
          <p:cNvPicPr/>
          <p:nvPr/>
        </p:nvPicPr>
        <p:blipFill>
          <a:blip r:embed="rId2"/>
          <a:stretch/>
        </p:blipFill>
        <p:spPr>
          <a:xfrm>
            <a:off x="7162920" y="5794200"/>
            <a:ext cx="1676160" cy="835200"/>
          </a:xfrm>
          <a:prstGeom prst="rect">
            <a:avLst/>
          </a:prstGeom>
          <a:ln w="0">
            <a:noFill/>
          </a:ln>
        </p:spPr>
      </p:pic>
      <p:pic>
        <p:nvPicPr>
          <p:cNvPr id="290" name="~PP1067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304920" y="2133720"/>
            <a:ext cx="8839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Do you like history?  If you do then I have the perfect book for you.   It is called </a:t>
            </a:r>
            <a:r>
              <a:rPr b="1" i="1" lang="en-US" sz="2800" spc="-1" strike="noStrike" u="sng">
                <a:solidFill>
                  <a:srgbClr val="eb641b"/>
                </a:solidFill>
                <a:uFillTx/>
                <a:latin typeface="Lucida Sans Unicode"/>
              </a:rPr>
              <a:t>KATE &amp; THE SPIES</a:t>
            </a: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6" descr="C:\Users\Joan Phillips\AppData\Local\Microsoft\Windows\Temporary Internet Files\Content.IE5\D39BL0G0\MP900362858[1].jpg"/>
          <p:cNvPicPr/>
          <p:nvPr/>
        </p:nvPicPr>
        <p:blipFill>
          <a:blip r:embed="rId1"/>
          <a:stretch/>
        </p:blipFill>
        <p:spPr>
          <a:xfrm>
            <a:off x="7162920" y="5032440"/>
            <a:ext cx="1676160" cy="834840"/>
          </a:xfrm>
          <a:prstGeom prst="rect">
            <a:avLst/>
          </a:prstGeom>
          <a:ln w="0">
            <a:noFill/>
          </a:ln>
        </p:spPr>
      </p:pic>
      <p:pic>
        <p:nvPicPr>
          <p:cNvPr id="293" name="~PP2656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1"/>
          <p:cNvSpPr/>
          <p:nvPr/>
        </p:nvSpPr>
        <p:spPr>
          <a:xfrm>
            <a:off x="777240" y="1371600"/>
            <a:ext cx="7579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It is historical fiction. The book takes pl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during the AMERICAN  REVOLUTION.   In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his book, a girl named Kate is torn betwe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being a Patriot or a Loyal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6" descr="C:\Users\Joan Phillips\AppData\Local\Microsoft\Windows\Temporary Internet Files\Content.IE5\D39BL0G0\MP900362858[1].jpg"/>
          <p:cNvPicPr/>
          <p:nvPr/>
        </p:nvPicPr>
        <p:blipFill>
          <a:blip r:embed="rId1"/>
          <a:stretch/>
        </p:blipFill>
        <p:spPr>
          <a:xfrm>
            <a:off x="7162920" y="5032440"/>
            <a:ext cx="1676160" cy="834840"/>
          </a:xfrm>
          <a:prstGeom prst="rect">
            <a:avLst/>
          </a:prstGeom>
          <a:ln w="0">
            <a:noFill/>
          </a:ln>
        </p:spPr>
      </p:pic>
      <p:pic>
        <p:nvPicPr>
          <p:cNvPr id="296" name="~PP3129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3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"/>
          <p:cNvSpPr/>
          <p:nvPr/>
        </p:nvSpPr>
        <p:spPr>
          <a:xfrm>
            <a:off x="727920" y="1676520"/>
            <a:ext cx="75369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Her mother and father are loyalists but 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cousins are Patriots. Then her cousin ask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her to be a spy. She is confused and do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not know what to 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6" descr="C:\Users\Joan Phillips\AppData\Local\Microsoft\Windows\Temporary Internet Files\Content.IE5\D39BL0G0\MP900362858[1].jpg"/>
          <p:cNvPicPr/>
          <p:nvPr/>
        </p:nvPicPr>
        <p:blipFill>
          <a:blip r:embed="rId1"/>
          <a:stretch/>
        </p:blipFill>
        <p:spPr>
          <a:xfrm>
            <a:off x="7162920" y="5032440"/>
            <a:ext cx="1676160" cy="834840"/>
          </a:xfrm>
          <a:prstGeom prst="rect">
            <a:avLst/>
          </a:prstGeom>
          <a:ln w="0">
            <a:noFill/>
          </a:ln>
        </p:spPr>
      </p:pic>
      <p:pic>
        <p:nvPicPr>
          <p:cNvPr id="299" name="~PP2760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2000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1"/>
          <p:cNvSpPr/>
          <p:nvPr/>
        </p:nvSpPr>
        <p:spPr>
          <a:xfrm>
            <a:off x="1135440" y="762120"/>
            <a:ext cx="6444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If you want to know more about th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Wonderful adventure, you must rea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the book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YOU WILL NOT BE DISAPPOINT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6" descr="C:\Users\Joan Phillips\AppData\Local\Microsoft\Windows\Temporary Internet Files\Content.IE5\D39BL0G0\MP900362858[1].jpg"/>
          <p:cNvPicPr/>
          <p:nvPr/>
        </p:nvPicPr>
        <p:blipFill>
          <a:blip r:embed="rId1"/>
          <a:stretch/>
        </p:blipFill>
        <p:spPr>
          <a:xfrm>
            <a:off x="7162920" y="5032440"/>
            <a:ext cx="1676160" cy="834840"/>
          </a:xfrm>
          <a:prstGeom prst="rect">
            <a:avLst/>
          </a:prstGeom>
          <a:ln w="0">
            <a:noFill/>
          </a:ln>
        </p:spPr>
      </p:pic>
      <p:pic>
        <p:nvPicPr>
          <p:cNvPr id="302" name="~PP3569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01:14:36Z</dcterms:created>
  <dc:creator>Joan Phillips</dc:creator>
  <dc:description/>
  <dc:language>en-US</dc:language>
  <cp:lastModifiedBy>Joan Phillips</cp:lastModifiedBy>
  <dcterms:modified xsi:type="dcterms:W3CDTF">2010-09-29T23:43:25Z</dcterms:modified>
  <cp:revision>23</cp:revision>
  <dc:subject/>
  <dc:title>September Book Commercial</dc:title>
</cp:coreProperties>
</file>