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  <p:custShowLst>
    <p:custShow name="Custom Show 1" id="0">
      <p:sldLst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DE6E-644B-4530-AEBC-2273F64113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6A1E-B036-45AF-B9DC-DA564F8ED6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DA77-842E-43A2-B2B3-91691F33FB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EA9-C5FF-4DC8-94E7-DDC0B8ED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B9B-4A28-4854-91FE-9F358CF5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5E2-038A-43A6-A4E3-2C5506172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A7C-A7EE-485C-B756-FE0885D6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604B-8114-4BE0-A624-AEB4B924B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9319-57A9-4973-9F3A-663CFD7E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BF17-8DB8-4FFD-A9DD-3250912F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0B90-199A-417E-925F-57955ED9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6B7D-7D00-4A2A-8B0C-6DFBC758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2327-EDC5-4E8E-8765-782EF793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9C0A-A15D-4803-A0E5-FA96EC7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953-37FF-4579-A018-8F396AB2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FBCA-431C-444A-81B8-530486F1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0198-9AD6-417E-B9CA-945BE72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7306A-68ED-4559-A496-FC60695C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E8E1-85E0-44F1-9169-3233E119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FF5B-2129-4832-9D20-F9401DEC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99CD-0A6D-4830-82DA-E805143F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61AB-2255-4C8E-97B2-1D3830A4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3A83C-CBE2-4C36-81BC-8268045E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3DCC-544F-4697-83E3-A28EFA31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DF34D-F58D-40E4-B016-EFA546DD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276-8DBD-4F38-A60D-E2316320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F83D-E85A-4A5C-9FB5-0C06FDC6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9AF3D-0190-4F2A-94B8-9310C41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A802-1087-4347-99DF-4FAB9277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0925-6020-45E8-8DB0-A38ACCA6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30DA7-16D7-4258-BFF1-FD80AFE6C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480AF-6410-4E74-ACF3-BF6A2FBB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0F71B-D858-4C6E-ADF5-532807E0C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1D598-BF44-4F24-89BC-446F622D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242A6-BB2F-4FFE-8A73-E073169D9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D86D1-286C-40BA-AD39-91E4BFBC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C5A-3C00-455C-A6EB-DF8DB713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4FB23-23F0-490F-8E75-87F472CE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59E2-F084-4509-87C7-36685216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E00B-025A-4BF2-9C0B-C1EAD178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BB8F3-77BC-48A5-8504-6AA87A37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86486-E4FE-4B7C-A187-7774BED3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A8E5-6A8A-4324-BC07-B718D48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F24B-4C83-4CE2-B938-EFC6F3A4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50E1B-CBE0-4C1A-AE52-BCB514DA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2B83-6F8E-4FE6-AA75-A00A2C92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04B5D-FA72-454D-AD06-ED50F652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9149-E63A-4680-998C-E4768AF7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F05CF-3851-4B6E-8721-71D714D4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132B1-2389-4FBC-B3DF-A6CBD82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08390-1296-41CB-BF3E-16BD3EBB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C3E63-9D40-4F7B-BD82-D48EDC27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992D7-A892-46C2-83B8-7481E748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103E1-74B6-4AD2-ACA7-97B0363B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8E4FA-CC06-49A9-8464-1762446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C4E24-13B4-4B30-A4BE-C5D717E1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BD409-7B58-4DD9-8F7C-19713A2D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104A9-71E2-4CAE-BBCC-6EA87242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8CA-EEBE-4792-A6F8-F54F488F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F76C8-BAB4-417D-BE81-CB2B7F22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06F31-6C57-49AC-B621-67CC48A0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36594-D9D5-4CC0-9BCB-139308D9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5EDEE-BF08-4BCC-86F5-655C8BE7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197A0-B1C7-48EB-B9CF-CB5032E9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1566A-187E-46B5-8CA2-CA3DDD10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0ED99-69DC-4415-9357-BC030E33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AD0C3-5082-4CF9-9765-2E54AA7E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A6CE0-A40C-4B70-81FE-08B563A7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4AE9F-650E-47B7-802E-36833D51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6CC-5417-42AC-BCD6-8E96920D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802E0-CBCF-41C8-918F-C79CF66C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1F900-7C34-498D-96FD-2E9AA725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D63E-3919-4A9F-8EA2-56CCC227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D14-C43D-43F6-8B46-008F9D4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9F4-86D9-4AB2-A757-F7BB4E7F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D1AB-0131-4C0F-9A4F-A8D597CBD44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1BD1-2738-42BB-B411-57690735DAB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A6FD-F33A-4E7D-A174-904D4C16261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C24C-5EF1-46C3-A6D2-367BF69E0C0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A453-DE97-4577-A85B-6D68BB576DF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80AC-D732-4E60-99EB-DD2F9B22470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3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695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24840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641b"/>
                </a:solidFill>
                <a:latin typeface="Lucida Sans Unicode"/>
                <a:ea typeface="Calibri"/>
              </a:rPr>
              <a:t>KATE &amp; THE SPIES: THE AMERICAN REVOLUTION</a:t>
            </a: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5" name="Picture 6" descr="C:\Users\Joan Phillips\AppData\Local\Microsoft\Windows\Temporary Internet Files\Content.IE5\D39BL0G0\MP900362858[1].jpg"/>
          <p:cNvPicPr/>
          <p:nvPr/>
        </p:nvPicPr>
        <p:blipFill>
          <a:blip r:embed="rId2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86" name="MS900431080[1].wav" descr=""/>
          <p:cNvPicPr/>
          <p:nvPr/>
        </p:nvPicPr>
        <p:blipFill>
          <a:blip r:embed="rId3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~PP3347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http://ecx.images-amazon.com/images/I/51ceVl8XL2L._SS500_.jpg"/>
          <p:cNvPicPr/>
          <p:nvPr/>
        </p:nvPicPr>
        <p:blipFill>
          <a:blip r:embed="rId1"/>
          <a:stretch/>
        </p:blipFill>
        <p:spPr>
          <a:xfrm>
            <a:off x="2400480" y="64764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C:\Users\Joan Phillips\AppData\Local\Microsoft\Windows\Temporary Internet Files\Content.IE5\D39BL0G0\MP900362858[1].jpg"/>
          <p:cNvPicPr/>
          <p:nvPr/>
        </p:nvPicPr>
        <p:blipFill>
          <a:blip r:embed="rId2"/>
          <a:stretch/>
        </p:blipFill>
        <p:spPr>
          <a:xfrm>
            <a:off x="7162920" y="5794200"/>
            <a:ext cx="1676160" cy="835200"/>
          </a:xfrm>
          <a:prstGeom prst="rect">
            <a:avLst/>
          </a:prstGeom>
          <a:ln w="0">
            <a:noFill/>
          </a:ln>
        </p:spPr>
      </p:pic>
      <p:pic>
        <p:nvPicPr>
          <p:cNvPr id="290" name="~PP1067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2133720"/>
            <a:ext cx="8839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Do you like history?  If you do then I have the perfect book for you.   It is called </a:t>
            </a:r>
            <a:r>
              <a:rPr b="1" i="1" lang="en-US" sz="2800" spc="-1" strike="noStrike" u="sng">
                <a:solidFill>
                  <a:srgbClr val="eb641b"/>
                </a:solidFill>
                <a:uFillTx/>
                <a:latin typeface="Lucida Sans Unicode"/>
              </a:rPr>
              <a:t>KATE &amp; THE SPIES</a:t>
            </a: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93" name="~PP265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777240" y="1371600"/>
            <a:ext cx="7579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It is historical fiction. The book takes pl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during the AMERICAN  REVOLUTION.   In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his book, a girl named Kate is torn bet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being a Patriot or a Loya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96" name="~PP312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727920" y="1676520"/>
            <a:ext cx="75369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Her mother and father are loyalists but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cousins are Patriots. Then her cousin as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her to be a spy. She is confused and do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not know what to 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99" name="~PP2760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1135440" y="762120"/>
            <a:ext cx="6444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If you want to know more about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Wonderful adventure, you must re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the book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YOU WILL NOT BE DISAPPOINT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302" name="~PP356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1:14:36Z</dcterms:created>
  <dc:creator>Joan Phillips</dc:creator>
  <dc:description/>
  <dc:language>en-US</dc:language>
  <cp:lastModifiedBy>Joan Phillips</cp:lastModifiedBy>
  <dcterms:modified xsi:type="dcterms:W3CDTF">2010-09-29T23:43:25Z</dcterms:modified>
  <cp:revision>23</cp:revision>
  <dc:subject/>
  <dc:title>September Book Commercial</dc:title>
</cp:coreProperties>
</file>