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3C7-E848-430C-8D59-A0FEB216F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7F7-C5F5-42B2-8CFD-06C7FBAA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84D-76E0-4B72-86A4-A2696CFD5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7BC-1F08-4B35-8F5D-34873549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B1BB-9373-4068-9D21-4A484DD7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E754-B776-42EA-B3C4-E51179D9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6B82A-641E-4941-8EC2-CF1ABBCC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D032-0713-414A-ACCE-EC4890E7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86F0-6586-44E2-AF18-EF6F8016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CB53-843B-4F22-A753-2BA61FD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0E78-B3FC-4B4D-B415-221E2818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B4B-72A1-4CBE-B039-F2764AF7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5C7D-55B1-42C5-94EA-85A144D8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613D-ED6C-4A5A-A65A-94B5F149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392F-4D53-4F4A-91C9-48583EDB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6B5C-2773-4F2F-8756-34B0F9AC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B184-4B5E-4BFF-BB04-BF461E7F7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D99C8-B028-4CA2-AE34-F3A456EF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EDB0-BDE3-4CA7-8D37-CF03FF7F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97CFB-0373-4F2D-8186-2C1CCA33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806B-6410-42E1-9D68-2A6911F0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86089-C5DF-4C28-BD6B-13148FB0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8DC-1A80-4FBE-951C-B271590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2DE97-F55E-40DC-ABE6-3743B678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9DEA8-8342-4D68-BB24-CA87B8B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8A396-1878-4AD5-9614-04A2442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A259-08B9-45C3-AC66-5EA64A1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6C66-3562-48AA-B65B-A25271D2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9A43-6B9F-4AEE-9DFE-DEDCB81C0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A245F-6FE5-4B16-B261-2F6BB003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6A92-9725-435C-AAA4-B385CA3B0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B4110-41C3-4470-A465-4A507CBC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CF795-A251-4007-8500-E2980119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D431-E499-464F-BBF6-E632E373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2D72-31A2-4B40-8B7A-A5540481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C0013-50B6-49A0-B933-9D2160A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900A5-D406-4163-8E63-92957D6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2C4F-AEBB-4D67-BD76-3F56D412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F6907-A4D9-4447-9404-2F0B7A92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1A644-7FEC-43D5-B10C-C14B5602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2052-F9DD-4521-A16B-F68AE937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07186-9019-4E66-8B07-0D7C4FBB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F6FB-1A32-44F8-B6A3-1D95BBAA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C69-9BC1-49D7-9BCF-44E0BC8E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FA3-333C-4B30-96CF-D5AA76A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36E0-7F79-4584-B310-43F37355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70F-4BC3-4136-9011-0464D85B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B18-B7B2-4004-81CE-6B9E3018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DC29-A987-4295-BB92-CE6344230E0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429B-6150-46A8-A9F0-560074B3FC3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9075-F114-4540-BF87-128F22A0CA6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C97E-2CAC-4627-A51A-C0344542BE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luck!!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cycle mean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circu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mi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pi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d luck on your test!!!!;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1 –what does the suffix ment mean??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228240"/>
            <a:ext cx="82296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answer :expressing the means or result of an actio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and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omplis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appoint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2.What does the prefix pre and post mean?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pre=before post= af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gradu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e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dict/dic mean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nswer:def- to say or declar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ct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c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log mean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wo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lo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pilo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9:15:09Z</dcterms:created>
  <dc:creator>200328792</dc:creator>
  <dc:description/>
  <dc:language>en-US</dc:language>
  <cp:lastModifiedBy>200328792</cp:lastModifiedBy>
  <dcterms:modified xsi:type="dcterms:W3CDTF">2010-10-05T19:34:55Z</dcterms:modified>
  <cp:revision>2</cp:revision>
  <dc:subject/>
  <dc:title>SAT review study guide</dc:title>
</cp:coreProperties>
</file>