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9294-57C5-45F6-A4B2-EA61599B1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DCFA-03D9-46A0-9B66-CADB540C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8A66-EC29-402D-810A-494CEDDD9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B79D-5073-445E-A009-4F4050FF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1FC2B-D13E-4AC2-A6AB-9E02FD103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D5D4-DD68-428D-8C84-A8003455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F0E2-8448-4430-AF14-28ABB4B4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A178-CFFB-4373-90A4-9ABE079E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43FA-A039-4505-9B66-45D3ED04E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EC77-14F7-42C9-9707-34C0B9C1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262E-0739-46DB-AC6B-8B8F993F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EF72-F556-4A40-8395-61B91447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502D-360F-49E9-8E6B-76A7FF5D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E1F23-D027-4DF4-ABD1-2644F09F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5D6B-EF14-494D-A65F-85D2622F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399D-FDB1-4DD4-BDC8-D00B10B5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3A1E-C7C6-4573-9579-BB8F8F4C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AC0E7-C67B-4D53-A7F2-CB11EF42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4BD7D-8C7F-4D64-A394-E3F7AFBF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3EC24-491C-4752-9ED9-0B298E2F7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3A337-29FC-49AC-A72D-7D1BD14F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09341-9B96-4D2D-BD4B-1E61A1DB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0D72-42CF-4E8C-84B7-E2FC660F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4F1C9-AB88-4215-B5FB-AD137DFD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32C42-AB01-414D-A7BF-8C4968A3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352F0-7378-442A-A0A4-B84DEB90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8C0E0-01A6-47B4-BA94-6B5A014C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DF06E-1155-401B-90CA-0574C3DD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221D3-F43D-473B-AFED-B164F9EFE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DA7E8-CA9C-4401-B680-38B06361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FA434-B257-4807-BB71-23371235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5298B-87C1-4613-95FB-D091B032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3B20F-B1A4-4D93-B26B-4EE6D8EA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3774-0AB0-488D-81B6-58C8D642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482D7-F93F-4E41-88BA-4D27B23D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19E2F-A671-4F2B-823B-F6D84B66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55D0C-C518-4F7C-B382-29733227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F7C7A-26E0-403A-A8CC-F8C50103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5A87D-6A15-4FCD-9BFB-AAAD0611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26190-71FB-417F-BF04-3FFB86C6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6E2FE-F09B-4C40-BEC5-A4B22643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D0AA6-A406-44AE-BD4C-A8D1D220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863F6-6D35-4CCD-9024-594C25E1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5E4F-8EDB-4815-8201-8062C1B7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8C7B-1868-4FA3-AB5C-43ECDB31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52C-7BCF-4710-B8BE-A3EC3B62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E19E-1F68-480E-BCC7-41505872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4810-A635-444D-BD98-A7600E82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1A22-E4F7-48DF-8F4F-40E4A6C3CB3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7EDA-2378-4CF1-900E-708846F5384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E655-F5FF-406A-861E-D4F3F9D57FB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1EBD-D704-4606-9B2B-A0742233B1F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ood luck!!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hat does the root word cycle mean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swer: circu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examples are…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micyc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picyc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ood luck on your test!!!!;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.1 –what does the suffix ment mean??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80880" y="228240"/>
            <a:ext cx="822960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e answer :expressing the means or result of an action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examples are…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ando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complish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appoint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2.What does the prefix pre and post mean??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swer: pre=before post= aft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examples are…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…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p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t…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tgradu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ter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hat does the root word dict/dic mean?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Answer:def- to say or declare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examples are…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ctat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c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hat does the root word log mean?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swer: wor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examples are…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olog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pilog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9:15:09Z</dcterms:created>
  <dc:creator>200328792</dc:creator>
  <dc:description/>
  <dc:language>en-US</dc:language>
  <cp:lastModifiedBy>200328792</cp:lastModifiedBy>
  <dcterms:modified xsi:type="dcterms:W3CDTF">2010-10-05T19:34:55Z</dcterms:modified>
  <cp:revision>2</cp:revision>
  <dc:subject/>
  <dc:title>SAT review study guide</dc:title>
</cp:coreProperties>
</file>