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C0CF-E8A9-42E2-B246-D6176DBE0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8761-CB5B-4E4F-8445-8F0D40557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F314-EC4E-4787-BBB9-FF691257D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5632-DE44-4BAA-833D-B32F6D6B5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4118-1403-40B0-8B05-BED3B143A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8D9-3BEF-4433-B1CC-92918FC3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978-3958-4C26-8FE0-21C15613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90E8-3FBD-42F9-840F-76991B1E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30E-0D3F-48FE-97AD-FF3C7FC1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1F8-7D3C-4A5B-A9E9-0A1AC93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246-4CC2-4889-94D3-2E5865F6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87E-97A3-4D86-A1F2-9E7FBFF6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171-82B6-4159-B10D-1B266D74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02F1-4F1B-4418-8D82-537905A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F45-59C8-4715-9781-0C13EA1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C64-E860-48BE-8785-105C69B8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5D5F-469C-4062-AD63-DA51AC7B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91A-5665-4104-A7C6-F47C4150A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hyperlink" Target="http://lanierfootball.com/" TargetMode="Externa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523880" y="344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ier High School SAT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1143000"/>
          <a:ext cx="670572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s of Spe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n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t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6" descr="Lanier Longhorn Football">
            <a:hlinkClick r:id="rId21"/>
          </p:cNvPr>
          <p:cNvPicPr/>
          <p:nvPr/>
        </p:nvPicPr>
        <p:blipFill>
          <a:blip r:embed="rId22"/>
          <a:srcRect l="0" t="0" r="81177" b="0"/>
          <a:stretch/>
        </p:blipFill>
        <p:spPr>
          <a:xfrm>
            <a:off x="76320" y="76320"/>
            <a:ext cx="1384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logu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trodu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ertain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mu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rehistoric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ode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scrip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gree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Entertain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bore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Base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t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pone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rep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24800" y="1752480"/>
            <a:ext cx="368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orcycle is to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 is to ped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icyc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568960" y="1523880"/>
            <a:ext cx="381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line is to C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 is to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90920" y="382104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a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233080" y="1752480"/>
            <a:ext cx="415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ce is to Co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gicize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590920" y="41259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ea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37760" y="175248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Enchantment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37400" y="1752480"/>
            <a:ext cx="49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is to Wa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chantment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sp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35960" y="1752480"/>
            <a:ext cx="51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sert is to Tre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is to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2000" y="175248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ostpon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32360" y="1752480"/>
            <a:ext cx="42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rologu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3440" y="17524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Logiciz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24800" y="175248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Dicti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par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ake rea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ction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verbi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Melanie</cp:lastModifiedBy>
  <dcterms:modified xsi:type="dcterms:W3CDTF">2010-10-06T01:53:19Z</dcterms:modified>
  <cp:revision>10</cp:revision>
  <dc:subject/>
  <dc:title>Slide 1</dc:title>
</cp:coreProperties>
</file>