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00AA-5C2E-46A7-B416-7F31A17A8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585A-1DC6-41FC-9E3A-59AA49129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B112-C372-4156-ABC3-58CAA4900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D563-095F-41F3-AE9D-0924F2316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EEBE-BB1B-46E9-8677-2CA2649AC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A5FB-8940-41CB-A9AB-FC3FFD678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A6E1-26B6-4FBA-8E4D-5D594EF8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D25F-02B1-44F5-8246-E000BE057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B2AE-58FF-430D-A17C-A7FF8F94A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5E33-AF8F-40E2-BEAA-ABD7F94B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FAF6-6E2C-4159-A8DB-8A6B6658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860D-A000-45FB-8E7B-E83BF706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28C3-F258-4664-B398-1ECEB614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D946-6415-4AA8-9CF5-DDB24AD2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FFF1-F3D4-4DB2-ACC9-24BBD922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C9C7-7677-467E-889F-7C9DDFB5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820E-AAA7-4C44-8F49-7BB0C92C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3B18-5F89-4105-8ABA-4298950D5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" Target="slide12.xml"/><Relationship Id="rId4" Type="http://schemas.openxmlformats.org/officeDocument/2006/relationships/slide" Target="slide17.xml"/><Relationship Id="rId5" Type="http://schemas.openxmlformats.org/officeDocument/2006/relationships/slide" Target="slide3.xml"/><Relationship Id="rId6" Type="http://schemas.openxmlformats.org/officeDocument/2006/relationships/slide" Target="slide8.xml"/><Relationship Id="rId7" Type="http://schemas.openxmlformats.org/officeDocument/2006/relationships/slide" Target="slide13.xml"/><Relationship Id="rId8" Type="http://schemas.openxmlformats.org/officeDocument/2006/relationships/slide" Target="slide18.xml"/><Relationship Id="rId9" Type="http://schemas.openxmlformats.org/officeDocument/2006/relationships/slide" Target="slide4.xml"/><Relationship Id="rId10" Type="http://schemas.openxmlformats.org/officeDocument/2006/relationships/slide" Target="slide9.xml"/><Relationship Id="rId11" Type="http://schemas.openxmlformats.org/officeDocument/2006/relationships/slide" Target="slide14.xml"/><Relationship Id="rId12" Type="http://schemas.openxmlformats.org/officeDocument/2006/relationships/slide" Target="slide19.xml"/><Relationship Id="rId13" Type="http://schemas.openxmlformats.org/officeDocument/2006/relationships/slide" Target="slide5.xml"/><Relationship Id="rId14" Type="http://schemas.openxmlformats.org/officeDocument/2006/relationships/slide" Target="slide10.xml"/><Relationship Id="rId15" Type="http://schemas.openxmlformats.org/officeDocument/2006/relationships/slide" Target="slide15.xml"/><Relationship Id="rId16" Type="http://schemas.openxmlformats.org/officeDocument/2006/relationships/slide" Target="slide20.xml"/><Relationship Id="rId17" Type="http://schemas.openxmlformats.org/officeDocument/2006/relationships/slide" Target="slide6.xml"/><Relationship Id="rId18" Type="http://schemas.openxmlformats.org/officeDocument/2006/relationships/slide" Target="slide11.xml"/><Relationship Id="rId19" Type="http://schemas.openxmlformats.org/officeDocument/2006/relationships/slide" Target="slide16.xml"/><Relationship Id="rId20" Type="http://schemas.openxmlformats.org/officeDocument/2006/relationships/slide" Target="slide21.xml"/><Relationship Id="rId21" Type="http://schemas.openxmlformats.org/officeDocument/2006/relationships/hyperlink" Target="http://lanierfootball.com/" TargetMode="External"/><Relationship Id="rId22" Type="http://schemas.openxmlformats.org/officeDocument/2006/relationships/image" Target="../media/image1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523880" y="34452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anier High School SAT Jeopar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143000" y="1143000"/>
          <a:ext cx="670572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ts of Spee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ynony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tony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alo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" name="Picture 166" descr="Lanier Longhorn Football">
            <a:hlinkClick r:id="rId21"/>
          </p:cNvPr>
          <p:cNvPicPr/>
          <p:nvPr/>
        </p:nvPicPr>
        <p:blipFill>
          <a:blip r:embed="rId22"/>
          <a:srcRect l="0" t="0" r="81177" b="0"/>
          <a:stretch/>
        </p:blipFill>
        <p:spPr>
          <a:xfrm>
            <a:off x="76320" y="76320"/>
            <a:ext cx="13842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2239560" y="1752480"/>
            <a:ext cx="56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 example of a synonym 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logue” is thi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77" name="TextBox 5"/>
          <p:cNvSpPr/>
          <p:nvPr/>
        </p:nvSpPr>
        <p:spPr>
          <a:xfrm>
            <a:off x="2590920" y="342900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n introduc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2239560" y="1752480"/>
            <a:ext cx="56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 example of a synonym 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ntertainment” is thi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80" name="TextBox 5"/>
          <p:cNvSpPr/>
          <p:nvPr/>
        </p:nvSpPr>
        <p:spPr>
          <a:xfrm>
            <a:off x="2590920" y="342900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muse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2237760" y="1752480"/>
            <a:ext cx="515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 example of an antony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r “Prehistoric” is t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83" name="TextBox 5"/>
          <p:cNvSpPr/>
          <p:nvPr/>
        </p:nvSpPr>
        <p:spPr>
          <a:xfrm>
            <a:off x="2590920" y="342900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moder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2237760" y="1752480"/>
            <a:ext cx="515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 example of an antony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r “Postscript” is t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2590920" y="342900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 gree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2237760" y="1752480"/>
            <a:ext cx="515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 example of an antony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r “Entertainment” is t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2590920" y="342900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bored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2237760" y="1752480"/>
            <a:ext cx="515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 example of an antony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r “Basement” is t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2590920" y="342900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tti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2237760" y="1752480"/>
            <a:ext cx="515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 example of an antony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r “Postpone” is t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95" name="TextBox 5"/>
          <p:cNvSpPr/>
          <p:nvPr/>
        </p:nvSpPr>
        <p:spPr>
          <a:xfrm>
            <a:off x="2590920" y="342900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rep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2224800" y="1752480"/>
            <a:ext cx="3684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torcycle is to 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________ is to peda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2590920" y="342900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 bicycl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2568960" y="1523880"/>
            <a:ext cx="381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line is to Cani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tic is to  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5"/>
          <p:cNvSpPr/>
          <p:nvPr/>
        </p:nvSpPr>
        <p:spPr>
          <a:xfrm>
            <a:off x="2590920" y="382104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 base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2233080" y="1752480"/>
            <a:ext cx="415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ce is to Col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ogicize is to 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5"/>
          <p:cNvSpPr/>
          <p:nvPr/>
        </p:nvSpPr>
        <p:spPr>
          <a:xfrm>
            <a:off x="2590920" y="412596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reas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2237760" y="1752480"/>
            <a:ext cx="498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word “Enchantment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this part of spe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6"/>
          <p:cNvSpPr/>
          <p:nvPr/>
        </p:nvSpPr>
        <p:spPr>
          <a:xfrm>
            <a:off x="2590920" y="342900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 nou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2237400" y="1752480"/>
            <a:ext cx="49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t is to War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nchantment is to 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2819520" y="420228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 spel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2235960" y="1752480"/>
            <a:ext cx="5171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ssert is to Trea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sessment is to 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5"/>
          <p:cNvSpPr/>
          <p:nvPr/>
        </p:nvSpPr>
        <p:spPr>
          <a:xfrm>
            <a:off x="2819520" y="420228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 te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2232000" y="1752480"/>
            <a:ext cx="425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word “Postpone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this part of spe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/>
          <p:cNvSpPr/>
          <p:nvPr/>
        </p:nvSpPr>
        <p:spPr>
          <a:xfrm>
            <a:off x="2590920" y="342900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 verb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2232360" y="1752480"/>
            <a:ext cx="423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word “Prologue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this part of spe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/>
          <p:cNvSpPr/>
          <p:nvPr/>
        </p:nvSpPr>
        <p:spPr>
          <a:xfrm>
            <a:off x="2590920" y="342900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 nou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2233440" y="175248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word “Logicize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this part of spe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62" name="TextBox 5"/>
          <p:cNvSpPr/>
          <p:nvPr/>
        </p:nvSpPr>
        <p:spPr>
          <a:xfrm>
            <a:off x="2590920" y="342900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 verb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2224800" y="1752480"/>
            <a:ext cx="394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word “Diction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this part of spe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2590920" y="342900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 nou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2239560" y="1752480"/>
            <a:ext cx="56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 example of a synonym 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sessment” is thi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2590920" y="342900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 tes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2239560" y="1752480"/>
            <a:ext cx="56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 example of a synonym 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epare” is thi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/>
          <p:cNvSpPr/>
          <p:nvPr/>
        </p:nvSpPr>
        <p:spPr>
          <a:xfrm>
            <a:off x="2590920" y="342900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make read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2239560" y="1752480"/>
            <a:ext cx="56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 example of a synonym 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ction” is thi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74" name="TextBox 5"/>
          <p:cNvSpPr/>
          <p:nvPr/>
        </p:nvSpPr>
        <p:spPr>
          <a:xfrm>
            <a:off x="2590920" y="342900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verbia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Melanie</cp:lastModifiedBy>
  <dcterms:modified xsi:type="dcterms:W3CDTF">2010-10-06T01:53:19Z</dcterms:modified>
  <cp:revision>10</cp:revision>
  <dc:subject/>
  <dc:title>Slide 1</dc:title>
</cp:coreProperties>
</file>