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8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6.jpeg" ContentType="image/jpeg"/>
  <Override PartName="/ppt/media/image14.png" ContentType="image/png"/>
  <Override PartName="/ppt/media/image12.png" ContentType="image/png"/>
  <Override PartName="/ppt/media/push.wav" ContentType="audio/x-wav"/>
  <Override PartName="/ppt/media/image11.png" ContentType="image/png"/>
  <Override PartName="/ppt/media/image13.png" ContentType="image/png"/>
  <Override PartName="/ppt/media/hammer.wav" ContentType="audio/x-wav"/>
  <Override PartName="/ppt/media/image20.png" ContentType="image/png"/>
  <Override PartName="/ppt/media/image1.png" ContentType="image/png"/>
  <Override PartName="/ppt/media/image29.wmf" ContentType="image/x-wmf"/>
  <Override PartName="/ppt/media/suction.wav" ContentType="audio/x-wav"/>
  <Override PartName="/ppt/media/image2.png" ContentType="image/png"/>
  <Override PartName="/ppt/media/drumroll.wav" ContentType="audio/x-wav"/>
  <Override PartName="/ppt/media/image30.wmf" ContentType="image/x-wmf"/>
  <Override PartName="/ppt/media/image34.gif" ContentType="image/gif"/>
  <Override PartName="/ppt/media/image21.png" ContentType="image/png"/>
  <Override PartName="/ppt/media/explode.wav" ContentType="audio/x-wav"/>
  <Override PartName="/ppt/media/image19.png" ContentType="image/png"/>
  <Override PartName="/ppt/media/image22.wmf" ContentType="image/x-wmf"/>
  <Override PartName="/ppt/media/wind.wav" ContentType="audio/x-wav"/>
  <Override PartName="/ppt/media/image24.png" ContentType="image/png"/>
  <Override PartName="/ppt/media/image3.png" ContentType="image/png"/>
  <Override PartName="/ppt/media/image32.gif" ContentType="image/gif"/>
  <Override PartName="/ppt/media/image25.png" ContentType="image/png"/>
  <Override PartName="/ppt/media/image26.png" ContentType="image/png"/>
  <Override PartName="/ppt/media/image33.gif" ContentType="image/gif"/>
  <Override PartName="/ppt/media/image9.png" ContentType="image/png"/>
  <Override PartName="/ppt/media/cashreg.wav" ContentType="audio/x-wav"/>
  <Override PartName="/ppt/media/image27.jpeg" ContentType="image/jpeg"/>
  <Override PartName="/ppt/media/image10.png" ContentType="image/png"/>
  <Override PartName="/ppt/media/image31.wmf" ContentType="image/x-wmf"/>
  <Override PartName="/ppt/media/image7.jpeg" ContentType="image/jpeg"/>
  <Override PartName="/ppt/media/voltage.wav" ContentType="audio/x-wav"/>
  <Override PartName="/ppt/media/breeze.wav" ContentType="audio/x-wav"/>
  <Override PartName="/ppt/media/camera.wav" ContentType="audio/x-wav"/>
  <Override PartName="/ppt/media/applause.wav" ContentType="audio/x-wav"/>
  <Override PartName="/ppt/media/image5.png" ContentType="image/png"/>
  <Override PartName="/ppt/media/image8.jpeg" ContentType="image/jpeg"/>
  <Override PartName="/ppt/media/image28.jpeg" ContentType="image/jpeg"/>
  <Override PartName="/ppt/media/whoosh.wav" ContentType="audio/x-wav"/>
  <Override PartName="/ppt/media/image23.wmf" ContentType="image/x-wmf"/>
  <Override PartName="/ppt/media/image4.png" ContentType="image/png"/>
  <Override PartName="/ppt/media/laser.wav" ContentType="audio/x-wav"/>
  <Override PartName="/ppt/media/arrow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7F3-5BB3-4716-8906-E75F3B814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0D07-D8B6-44FE-92DB-959A18E7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C8B-2674-49A6-B745-360911B6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569-4225-492E-A6E3-77AB29D5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967-2657-4EF5-AF02-96A51F36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E3AB-2576-4460-88A9-700DBC33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18DA-5F7D-4461-B8C3-69B7A601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58BE-7820-4C49-80F1-3A3AEE3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7CB4-3D03-4A68-99BA-D0598551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A39C-9CAA-4737-81AB-79522440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51A5-26A5-408B-B754-8EA389EA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EA7-2C96-4352-9398-B0DE53D0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B5B4-E35E-4B1E-929B-515495FA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2DDD-0BA1-40B5-91EE-13D9DCCC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B32A-62F4-49B9-96F4-780BB4F3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0E1B-A9B8-4F56-92BC-7EF9F4E8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3CB2-292E-4E11-91AA-4874BEFC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F5671-B689-4E7A-B217-8376AA45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3C4A1-6435-4EC4-ADF5-13B91964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41787-4D70-4EF6-9A29-DB8543EB0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CC8E-099B-4BD8-AA5A-D9297F15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B91C-2DA7-4642-BB4E-97B82585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0FF-F628-41E3-AFA7-E4E2F535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D161A-1807-4D3E-959E-F32C8777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D32B8-9CCA-4F16-B4CB-9E2E1A92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9EF3-F224-4AEC-A8A6-2F86117E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06F8-4B4B-4BC3-8E54-8E3A4F86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78F0-8893-4BD0-BD31-12FBA945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30293-8EFB-4E4D-A68F-AA215F3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A816-3034-4495-A7B7-5B2EB1F8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34AE-C890-4606-BA36-F0A7396B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0A3CA-CC88-48DD-86DD-954296E6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3611F-F051-451E-AA5A-A18A2780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708-76A1-4CAE-A889-47C7C4EB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2AE1-1A4C-4E13-8FD6-FC1ABE63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4C1CA-1D30-4F87-B3CA-65CF7315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F7DF-EE3D-4061-B13D-421D6D19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DEF33-D963-447A-8E82-F8CD23F8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76408-BC29-4BC9-9DB8-4555D1E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6B102-3A89-4ADD-9A42-EFF19D21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0AA88-883E-437B-9B82-958BC559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104A-3130-43E9-BCA4-77585E34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6D4F-453B-4A54-A453-34F9C912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BDCF8-EBA6-4183-9A26-6AACD15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ABB-4680-4B8D-B228-D821DC88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B2A1-1D1F-4838-8E86-B9634DA8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27C1-4C72-4AFC-A7B7-FF1D10DB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B0D9-10CF-442B-9912-DBC50B7F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FADBE-F516-4551-AFDF-456BE1DE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973BB-1C13-4D36-9792-A36886E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9A965-2162-4B7E-9A31-E243F078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2A3B0-879F-4766-B5AA-54DBC538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6F44-08F8-4C4D-931A-B19AE276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8131-DF9B-4392-BD70-9D21693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7311F-5514-4C31-BEE1-92EE8AD4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EC7-3FAD-4262-A5F6-E638F4F4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6A922-A4B4-477C-8B19-1B37CC3A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C692A-BDA3-42F6-9713-A81D0083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B3764-371E-4BFD-947F-79F70D7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A63D1-9BCA-40CA-B854-F01E5E9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41506-67BD-4BFB-A7F7-92DA511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9A02A-6F01-442C-80DE-2B1783A6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2911-7AE4-433D-8E1B-E9DB026F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12221-0564-4803-B1BC-4DFE218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CE663-6A2D-40E8-B77E-579EF56B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9646-2A57-4DDA-A076-9A184F7C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A5F-4C10-48E6-8686-CB2D7E20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6A683-1592-4B48-8BC2-B22CD1C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4EEE6-A2CB-4408-8F3D-75D47D34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13640-8FD7-47B8-9267-265D84AD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D925-478C-4B54-B1E6-603DC8B2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F29BF-2B16-4088-9BDD-1BD743D5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009E8-F57D-4C69-8350-B74C7C83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014BD-08B7-4921-8EC2-2309142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DCA85-7E9F-4CCA-871A-53BE7212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40696-4EF4-4D9D-B547-B2C07E08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86503-D0D3-4AC3-98B9-B6BC1B241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8EF-D254-4FED-8EF6-48588A29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CAD5C-C23C-4660-B4DD-01218707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B73E2-C685-481D-9A14-0DA8979D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1061A-7949-4FE2-9978-846A7243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84F3D-C3AE-480F-BC8C-93AE778BF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B80430-E8EE-4B18-9EE9-E5F1249B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5D4-FFF7-4FFE-896A-89CFDCEC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65F-65FC-4163-ADC0-C2D4F12B3FA5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BC66-15D1-44E1-AB35-E0C17A200638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B371-FE40-458C-B7DF-5FBFDEE2D34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1F08-FC22-4EB1-B583-CD8BAA96A0E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C865-848E-4D8F-A78B-E38EF867027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6F19-F7AE-4DB7-88E7-44211F730D9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E7EE-4099-4676-869E-991880EADE23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ostpaid: Adj- 1.Syn- Sender of mail pays for postage 2.Ant- You have to pay for your own posta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Postdate:Verb- 1. Syn: Write a future date 2. Analogy- Postdate: Play :: Postdating: Play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292480"/>
            <a:ext cx="82425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Dictionary: Noun- 1. Dictionary: Entries :: Magazine: Article 2.* Picture: Diction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Dictate: Verb- 1. Dictate: Dictated :: Fire: Fired 2. Syn: Command/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C:\Documents and Settings\200227631\Local Settings\Temporary Internet Files\Content.IE5\LY6GSXC0\MP900174966[1].jpg"/>
          <p:cNvPicPr/>
          <p:nvPr/>
        </p:nvPicPr>
        <p:blipFill>
          <a:blip r:embed="rId2"/>
          <a:stretch/>
        </p:blipFill>
        <p:spPr>
          <a:xfrm>
            <a:off x="4495680" y="4114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3" name="wind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60336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7800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Catalog: Noun- 1. Catalog: Epilogue :: Diction: Contradict 2. *Picture- Catalo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Monologue: Noun- 1. Monologue: Talk to yourself :: Dialogue: Conversation with 2 people 2.**Picture- Monologu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                 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C:\Documents and Settings\200227631\Local Settings\Temporary Internet Files\Content.IE5\NK6EFHYT\MC900281087[1].wmf"/>
          <p:cNvPicPr/>
          <p:nvPr/>
        </p:nvPicPr>
        <p:blipFill>
          <a:blip r:embed="rId2"/>
          <a:stretch/>
        </p:blipFill>
        <p:spPr>
          <a:xfrm>
            <a:off x="1219320" y="4343400"/>
            <a:ext cx="128088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Documents and Settings\200227631\Local Settings\Temporary Internet Files\Content.IE5\LY6GSXC0\MC900060029[1].wmf"/>
          <p:cNvPicPr/>
          <p:nvPr/>
        </p:nvPicPr>
        <p:blipFill>
          <a:blip r:embed="rId3"/>
          <a:stretch/>
        </p:blipFill>
        <p:spPr>
          <a:xfrm>
            <a:off x="4419720" y="4495680"/>
            <a:ext cx="182556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lase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824256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suctio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08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5228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Epicycle: Noun- 1. Epi: Cycle :: Bi:Bicycle 2.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Cyclery: Noun- 1. Cyclery: Shop that sells bicycles :: Boutique: Shop that sell women's clothes and jewele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Picture- Cyclery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77336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4" name="breeze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530280" y="2219400"/>
            <a:ext cx="824220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sh dir="u"/>
    <p:sndAc>
      <p:stSnd>
        <p:snd r:embed="rId2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So how did you do?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 out of 6- WOWZERS! You are going to ace that SAT!!!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 out of 6- Whoa! You did amazing, but you just might want to go back to the one you missed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 out of 6- Cool! You certainly know most of the material just go back one more time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 or less out of 6- Sorry but you need a retest. You get some of the material but the rest is still kinda foggy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 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W GO ACE THAT SAT!!!!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736560" cy="903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562720" y="3809880"/>
            <a:ext cx="2666880" cy="262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738360" cy="892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049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905120" y="5029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applaus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set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328240" cy="332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240" y="11426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Excitement: Ant- Depression * Picture-Excitemen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.Abandonment:Abanddonment:Abanddon ::Disapear:Appear ** Picture-Abandon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.Accomplishment Syn- To achieve something Accomplishment:Ment :: Happily:i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.Disapointment Syn- Dash hopes *** Picture-Disappoint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**                    **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238880" y="1752480"/>
            <a:ext cx="1752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6553080" y="22096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rt of Spe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152440" cy="1873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98440" y="2523960"/>
            <a:ext cx="824220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378000" y="279252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redecessor: Noun- 1. Syn: Prototype 2. Ant: Success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Precede: Verb- 1. Analogy- Precede: Ahead of :: Hate: Dislike 2. Ant: A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split dir="in" orient="vert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378000" y="258444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4:44Z</dcterms:created>
  <dc:creator>200227631</dc:creator>
  <dc:description/>
  <dc:language>en-US</dc:language>
  <cp:lastModifiedBy>John Pham</cp:lastModifiedBy>
  <dcterms:modified xsi:type="dcterms:W3CDTF">2010-10-07T01:03:31Z</dcterms:modified>
  <cp:revision>7</cp:revision>
  <dc:subject/>
  <dc:title> SAT REVIEW TEST!!!! </dc:title>
</cp:coreProperties>
</file>