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8.jpeg" ContentType="image/jpeg"/>
  <Override PartName="/ppt/media/image15.png" ContentType="image/png"/>
  <Override PartName="/ppt/media/image16.png" ContentType="image/png"/>
  <Override PartName="/ppt/media/image17.png" ContentType="image/png"/>
  <Override PartName="/ppt/media/type.wav" ContentType="audio/x-wav"/>
  <Override PartName="/ppt/media/image6.jpeg" ContentType="image/jpeg"/>
  <Override PartName="/ppt/media/image14.png" ContentType="image/png"/>
  <Override PartName="/ppt/media/image12.png" ContentType="image/png"/>
  <Override PartName="/ppt/media/push.wav" ContentType="audio/x-wav"/>
  <Override PartName="/ppt/media/image11.png" ContentType="image/png"/>
  <Override PartName="/ppt/media/image13.png" ContentType="image/png"/>
  <Override PartName="/ppt/media/hammer.wav" ContentType="audio/x-wav"/>
  <Override PartName="/ppt/media/image20.png" ContentType="image/png"/>
  <Override PartName="/ppt/media/image1.png" ContentType="image/png"/>
  <Override PartName="/ppt/media/image29.wmf" ContentType="image/x-wmf"/>
  <Override PartName="/ppt/media/suction.wav" ContentType="audio/x-wav"/>
  <Override PartName="/ppt/media/image2.png" ContentType="image/png"/>
  <Override PartName="/ppt/media/drumroll.wav" ContentType="audio/x-wav"/>
  <Override PartName="/ppt/media/image30.wmf" ContentType="image/x-wmf"/>
  <Override PartName="/ppt/media/image34.gif" ContentType="image/gif"/>
  <Override PartName="/ppt/media/image21.png" ContentType="image/png"/>
  <Override PartName="/ppt/media/explode.wav" ContentType="audio/x-wav"/>
  <Override PartName="/ppt/media/image19.png" ContentType="image/png"/>
  <Override PartName="/ppt/media/image22.wmf" ContentType="image/x-wmf"/>
  <Override PartName="/ppt/media/wind.wav" ContentType="audio/x-wav"/>
  <Override PartName="/ppt/media/image24.png" ContentType="image/png"/>
  <Override PartName="/ppt/media/image3.png" ContentType="image/png"/>
  <Override PartName="/ppt/media/image32.gif" ContentType="image/gif"/>
  <Override PartName="/ppt/media/image25.png" ContentType="image/png"/>
  <Override PartName="/ppt/media/image26.png" ContentType="image/png"/>
  <Override PartName="/ppt/media/image33.gif" ContentType="image/gif"/>
  <Override PartName="/ppt/media/image9.png" ContentType="image/png"/>
  <Override PartName="/ppt/media/cashreg.wav" ContentType="audio/x-wav"/>
  <Override PartName="/ppt/media/image27.jpeg" ContentType="image/jpeg"/>
  <Override PartName="/ppt/media/image10.png" ContentType="image/png"/>
  <Override PartName="/ppt/media/image31.wmf" ContentType="image/x-wmf"/>
  <Override PartName="/ppt/media/image7.jpeg" ContentType="image/jpeg"/>
  <Override PartName="/ppt/media/voltage.wav" ContentType="audio/x-wav"/>
  <Override PartName="/ppt/media/breeze.wav" ContentType="audio/x-wav"/>
  <Override PartName="/ppt/media/camera.wav" ContentType="audio/x-wav"/>
  <Override PartName="/ppt/media/applause.wav" ContentType="audio/x-wav"/>
  <Override PartName="/ppt/media/image5.png" ContentType="image/png"/>
  <Override PartName="/ppt/media/image8.jpeg" ContentType="image/jpeg"/>
  <Override PartName="/ppt/media/image28.jpeg" ContentType="image/jpeg"/>
  <Override PartName="/ppt/media/whoosh.wav" ContentType="audio/x-wav"/>
  <Override PartName="/ppt/media/image23.wmf" ContentType="image/x-wmf"/>
  <Override PartName="/ppt/media/image4.png" ContentType="image/png"/>
  <Override PartName="/ppt/media/laser.wav" ContentType="audio/x-wav"/>
  <Override PartName="/ppt/media/arrow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B21B3-8ED3-4232-B1CA-4BDB72C29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1071E-C9B4-494C-B1D3-910AA0B0E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2757A-F98B-4627-A28D-A57D52834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0A6C2-8C41-4D70-9110-FE7F54177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3421D-762A-40D5-9BB8-8414DB36F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C9524-A860-4F04-8D86-D498E645C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1FFD9-00DC-4779-9442-2E9F898C0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1CD17-7C19-4B9E-9C65-63343EDC1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123DD-5BCD-4F22-9A24-D3E7DA884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E343F-CC10-426A-92BA-05B24D213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76652-5DA3-4D6A-A826-8D138A3DB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3F055-11E6-4040-A702-D7D1CD317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B84FC-A541-4A0A-A8CC-A71A81623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9D774-E59E-4E78-8A9A-465DE5F56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AE980-764E-45DA-A304-16C876843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FBB22-B36B-4C21-A7CC-053959C97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A5D18-1B67-4F25-A12D-E4FAD3D72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CFAE4F-3EEA-4861-8012-485D62E46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E2584A-7124-4FE5-8E65-830FA756B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95158C-6F39-493C-AF92-BFB37A766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AD596E-1088-489F-9BB6-9DBBB7A87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74722D-EC6C-4CBD-AD7A-1041F2763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EDE85-F560-41D3-8276-642353A99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0A7893-B0AB-4F24-B837-846A19D4D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ED2BE8-75BC-4B5A-8B64-ACCCCE31E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F9310C-9E5B-4CE9-9956-CE34DD2E1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FE30E6-F326-49F3-BABA-4F5C2A490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3BE2BE-69EA-4624-A0EF-29C9349D4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2A63E3-B27A-4C1F-96F2-85A1930DE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770102-1D49-483C-BA56-0A193FD8C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2466FB-6AE2-4B08-BA73-F144F31C6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CC3480-D7C3-4C83-B501-16DD5DDB4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4C5090-5F7D-4277-AE72-0A0DCCAF6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0F67A-D811-483E-B7DE-5CCEB4F3A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719283-70C0-484F-A350-CDA4462CC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B5589A-9BCE-4ABB-BF89-3DC44826C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8E2DF1-14D3-4F94-B848-FDA521745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A3F09C-B9CD-4590-B5B9-3FD14112C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2B28B6-D22E-4031-9261-E3E270FA8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D4D6EA-C826-4070-BE52-15A750E24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3A1756-80BF-4585-8C64-CDBF0AE20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16BA45-D069-467D-B6F4-E43423583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FBC485-8902-4E7D-AB95-A7C08598D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11AD67-11A1-4517-91D8-7E283B033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00278-813F-419A-8694-69F031C7A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A586F4-9927-4ED6-BE1A-6ADDFD529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0A5142-9563-4FB9-BA82-51BE01F50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3ED2DC-F7FF-4137-9D8C-AED4E1C99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8D45DD-58F1-4C86-B7B5-55A2F4882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B9F001-C5A7-46B9-991D-FFA90C705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A51E9B-3D40-44ED-B215-0343A031F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1AD380-4D00-46B4-B192-EFE2C6C2B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B1BCF5-65D8-47A6-9962-C3ECA3085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ED9B1B-8F41-466E-A6FA-4E440299A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AADF9F-92B3-4AEC-9D85-C2B8FCE0C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55E8D-A04A-4738-9BAB-4EA7DAE2D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5DE852-8043-4D0F-A0A3-AFB9810EF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CDFB25-96BF-4328-A693-F9C6C802B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0DE78C-AFD5-4697-8160-A09DD65AA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E04DE6-2BCC-4D22-9FC7-F540B4081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C64529-3645-4858-8A5C-EF577EB05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1BAC10-4506-4CA6-B30C-3446B95A1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926224-BF9F-44ED-BFAF-86AB4E644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6272ED-ACC6-4B5E-AE38-049EC8357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F4A7CE-87E6-498E-9DA6-AA403FDA9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6D6A0C-0ADE-43A8-B005-A17A8BC4F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5C38A-BA41-421A-AC37-4E31FDC17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38CD11-5FBF-437B-94E2-20507D68F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59077A-97D2-4D68-8571-9A001EBEE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4C81DF-6C9A-4CBF-A196-46A3EB2C7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C49F02-6709-46DD-83FF-16B124A19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95EF45-D03B-4489-B778-199829E4D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9A7049-0E76-41A2-84C0-E534732E6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F349AF-7325-4C61-AC2A-4D171D50F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3D098E-3585-494A-A6FD-D3B940C13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9C4C78-8209-4C5C-BFDD-57A6668C7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1E7894-017C-456B-B3BC-5DF6CB756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BFFAE-1CE5-4866-BF17-1C52AB5C7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5F42CC-6B9B-4BE8-8BB5-29F8E6077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BEFDD8-895F-4624-BA04-0542912E5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E0B7D3-1986-4B05-B498-9859B4683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BA16CD-2FF9-4952-B0EC-1D05FBAEF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24275B-0235-4A3A-9D03-3FDF25CA3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2607E-7094-47E7-96A8-140371A02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CDECB-F071-40BF-B21E-90F9F4EA9D01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Isosceles Triangle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D33BC-76E5-40B7-B031-A1AA725513F8}" type="slidenum">
              <a:rPr b="0" lang="en-US" sz="13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CCC6F-3F6E-40E7-86F4-AB39589551C4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ight Triangle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Isosceles Triangle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Straight Connector 12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Straight Connector 14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03F5B-AFB3-4D90-A21A-CBD3A9D47D44}" type="slidenum">
              <a:rPr b="0" lang="en-US" sz="1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659B2-CDBB-411B-8DC5-960A5C00B768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19125-09C6-4720-BD66-410D979AB2E0}" type="slidenum">
              <a:rPr b="0" lang="en-US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9A7B0-9DA8-4678-BC60-83D49F29378E}" type="slidenum">
              <a:rPr b="0" lang="en-US" sz="9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audio" Target="../media/voltage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audio" Target="../media/wind.wav"/><Relationship Id="rId4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audio" Target="../media/push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wmf"/><Relationship Id="rId3" Type="http://schemas.openxmlformats.org/officeDocument/2006/relationships/image" Target="../media/image23.wmf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audio" Target="../media/voltage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audio" Target="../media/suction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audio" Target="../media/breeze.wav"/><Relationship Id="rId5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breeze.wav"/><Relationship Id="rId3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image" Target="../media/image32.gif"/><Relationship Id="rId5" Type="http://schemas.openxmlformats.org/officeDocument/2006/relationships/image" Target="../media/image33.gif"/><Relationship Id="rId6" Type="http://schemas.openxmlformats.org/officeDocument/2006/relationships/image" Target="../media/image34.gif"/><Relationship Id="rId7" Type="http://schemas.openxmlformats.org/officeDocument/2006/relationships/audio" Target="../media/applause.wav"/><Relationship Id="rId8" Type="http://schemas.openxmlformats.org/officeDocument/2006/relationships/slideLayout" Target="../slideLayouts/slideLayout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audio" Target="../media/explode.wav"/><Relationship Id="rId6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audio" Target="../media/hammer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audio" Target="../media/push.wav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audio" Target="../media/suction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audio" Target="../media/suction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Title 1" descr=""/>
          <p:cNvPicPr/>
          <p:nvPr/>
        </p:nvPicPr>
        <p:blipFill>
          <a:blip r:embed="rId1"/>
          <a:stretch/>
        </p:blipFill>
        <p:spPr>
          <a:xfrm>
            <a:off x="536400" y="768240"/>
            <a:ext cx="8326440" cy="1481400"/>
          </a:xfrm>
          <a:prstGeom prst="rect">
            <a:avLst/>
          </a:prstGeom>
          <a:ln w="0">
            <a:noFill/>
          </a:ln>
        </p:spPr>
      </p:pic>
      <p:pic>
        <p:nvPicPr>
          <p:cNvPr id="302" name="Subtitle 2" descr=""/>
          <p:cNvPicPr/>
          <p:nvPr/>
        </p:nvPicPr>
        <p:blipFill>
          <a:blip r:embed="rId2"/>
          <a:stretch/>
        </p:blipFill>
        <p:spPr>
          <a:xfrm>
            <a:off x="536400" y="2170080"/>
            <a:ext cx="8174160" cy="184140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  <p:sndAc>
      <p:stSnd>
        <p:snd r:embed="rId3" name="drumroll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1.Postpaid: Adj- 1.Syn- Sender of mail pays for postage 2.Ant- You have to pay for your own postag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2.Postdate:Verb- 1. Syn: Write a future date 2. Analogy- Postdate: Play :: Postdating: Playing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 spd="slow">
    <p:diamond/>
    <p:sndAc>
      <p:stSnd>
        <p:snd r:embed="rId2" name="type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Title 1" descr=""/>
          <p:cNvPicPr/>
          <p:nvPr/>
        </p:nvPicPr>
        <p:blipFill>
          <a:blip r:embed="rId1"/>
          <a:stretch/>
        </p:blipFill>
        <p:spPr>
          <a:xfrm>
            <a:off x="450720" y="2292480"/>
            <a:ext cx="8242560" cy="155412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horz"/>
    <p:sndAc>
      <p:stSnd>
        <p:snd r:embed="rId2" name="voltage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Title 1" descr=""/>
          <p:cNvPicPr/>
          <p:nvPr/>
        </p:nvPicPr>
        <p:blipFill>
          <a:blip r:embed="rId1"/>
          <a:stretch/>
        </p:blipFill>
        <p:spPr>
          <a:xfrm>
            <a:off x="378000" y="2432160"/>
            <a:ext cx="8242200" cy="141444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  <p:sndAc>
      <p:stSnd>
        <p:snd r:embed="rId2" name="whoosh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24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1. Dictionary: Noun- 1. Dictionary: Entries :: Magazine: Article 2.* Picture: Dictionar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2. Dictate: Verb- 1. Dictate: Dictated :: Fire: Fired 2. Syn: Command/Ord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                                  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*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25" name="Picture 2" descr="C:\Documents and Settings\200227631\Local Settings\Temporary Internet Files\Content.IE5\LY6GSXC0\MP900174966[1].jpg"/>
          <p:cNvPicPr/>
          <p:nvPr/>
        </p:nvPicPr>
        <p:blipFill>
          <a:blip r:embed="rId2"/>
          <a:stretch/>
        </p:blipFill>
        <p:spPr>
          <a:xfrm>
            <a:off x="4495680" y="4114800"/>
            <a:ext cx="3657600" cy="24382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in" orient="horz"/>
    <p:sndAc>
      <p:stSnd>
        <p:snd r:embed="rId3" name="wind.wav"/>
      </p:stSnd>
    </p:sndAc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8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Title 1" descr=""/>
          <p:cNvPicPr/>
          <p:nvPr/>
        </p:nvPicPr>
        <p:blipFill>
          <a:blip r:embed="rId1"/>
          <a:stretch/>
        </p:blipFill>
        <p:spPr>
          <a:xfrm>
            <a:off x="603360" y="2511360"/>
            <a:ext cx="8242200" cy="1408320"/>
          </a:xfrm>
          <a:prstGeom prst="rect">
            <a:avLst/>
          </a:prstGeom>
          <a:ln w="0">
            <a:noFill/>
          </a:ln>
        </p:spPr>
      </p:pic>
    </p:spTree>
  </p:cSld>
  <p:transition spd="slow">
    <p:plus/>
    <p:sndAc>
      <p:stSnd>
        <p:snd r:embed="rId2" name="push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Title 1" descr=""/>
          <p:cNvPicPr/>
          <p:nvPr/>
        </p:nvPicPr>
        <p:blipFill>
          <a:blip r:embed="rId1"/>
          <a:stretch/>
        </p:blipFill>
        <p:spPr>
          <a:xfrm>
            <a:off x="378000" y="2511360"/>
            <a:ext cx="8242200" cy="1408320"/>
          </a:xfrm>
          <a:prstGeom prst="rect">
            <a:avLst/>
          </a:prstGeom>
          <a:ln w="0">
            <a:noFill/>
          </a:ln>
        </p:spPr>
      </p:pic>
    </p:spTree>
  </p:cSld>
  <p:transition spd="slow">
    <p:comb dir="vert"/>
    <p:sndAc>
      <p:stSnd>
        <p:snd r:embed="rId2" name="cashreg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1. Catalog: Noun- 1. Catalog: Epilogue :: Diction: Contradict 2. *Picture- Catalog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2. Monologue: Noun- 1. Monologue: Talk to yourself :: Dialogue: Conversation with 2 people 2.**Picture- Monologu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    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**                          *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30" name="Picture 2" descr="C:\Documents and Settings\200227631\Local Settings\Temporary Internet Files\Content.IE5\NK6EFHYT\MC900281087[1].wmf"/>
          <p:cNvPicPr/>
          <p:nvPr/>
        </p:nvPicPr>
        <p:blipFill>
          <a:blip r:embed="rId2"/>
          <a:stretch/>
        </p:blipFill>
        <p:spPr>
          <a:xfrm>
            <a:off x="1219320" y="4343400"/>
            <a:ext cx="1280880" cy="228600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3" descr="C:\Documents and Settings\200227631\Local Settings\Temporary Internet Files\Content.IE5\LY6GSXC0\MC900060029[1].wmf"/>
          <p:cNvPicPr/>
          <p:nvPr/>
        </p:nvPicPr>
        <p:blipFill>
          <a:blip r:embed="rId3"/>
          <a:stretch/>
        </p:blipFill>
        <p:spPr>
          <a:xfrm>
            <a:off x="4419720" y="4495680"/>
            <a:ext cx="1825560" cy="1060560"/>
          </a:xfrm>
          <a:prstGeom prst="rect">
            <a:avLst/>
          </a:prstGeom>
          <a:ln w="0">
            <a:noFill/>
          </a:ln>
        </p:spPr>
      </p:pic>
    </p:spTree>
  </p:cSld>
  <p:transition spd="slow">
    <p:wedge/>
    <p:sndAc>
      <p:stSnd>
        <p:snd r:embed="rId4" name="laser.wav"/>
      </p:stSnd>
    </p:sndAc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d2d2d2"/>
                                      </p:to>
                                    </p:animClr>
                                    <p:animClr clrSpc="rgb">
                                      <p:cBhvr>
                                        <p:cTn id="35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d2d2d2"/>
                                      </p:to>
                                    </p:animClr>
                                    <p:set>
                                      <p:cBhvr>
                                        <p:cTn id="36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37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3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39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40059"/>
                                      </p:to>
                                    </p:animClr>
                                    <p:animClr clrSpc="rgb">
                                      <p:cBhvr>
                                        <p:cTn id="44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40059"/>
                                      </p:to>
                                    </p:animClr>
                                    <p:set>
                                      <p:cBhvr>
                                        <p:cTn id="45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Title 1" descr=""/>
          <p:cNvPicPr/>
          <p:nvPr/>
        </p:nvPicPr>
        <p:blipFill>
          <a:blip r:embed="rId1"/>
          <a:stretch/>
        </p:blipFill>
        <p:spPr>
          <a:xfrm>
            <a:off x="450720" y="2432160"/>
            <a:ext cx="8242560" cy="1414440"/>
          </a:xfrm>
          <a:prstGeom prst="rect">
            <a:avLst/>
          </a:prstGeom>
          <a:ln w="0">
            <a:noFill/>
          </a:ln>
        </p:spPr>
      </p:pic>
    </p:spTree>
  </p:cSld>
  <p:transition spd="slow">
    <p:wheel/>
    <p:sndAc>
      <p:stSnd>
        <p:snd r:embed="rId2" name="voltage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Title 1" descr=""/>
          <p:cNvPicPr/>
          <p:nvPr/>
        </p:nvPicPr>
        <p:blipFill>
          <a:blip r:embed="rId1"/>
          <a:stretch/>
        </p:blipFill>
        <p:spPr>
          <a:xfrm>
            <a:off x="450720" y="2511360"/>
            <a:ext cx="8242560" cy="14083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  <p:sndAc>
      <p:stSnd>
        <p:snd r:embed="rId2" name="suction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Title 1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8242560" cy="1408320"/>
          </a:xfrm>
          <a:prstGeom prst="rect">
            <a:avLst/>
          </a:prstGeom>
          <a:ln w="0">
            <a:noFill/>
          </a:ln>
        </p:spPr>
      </p:pic>
      <p:sp>
        <p:nvSpPr>
          <p:cNvPr id="335" name=""/>
          <p:cNvSpPr txBox="1"/>
          <p:nvPr/>
        </p:nvSpPr>
        <p:spPr>
          <a:xfrm>
            <a:off x="152280" y="12193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43160" indent="-37872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1. Epicycle: Noun- 1. Epi: Cycle :: Bi:Bicycle 2. *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3160" indent="-37872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2. Cyclery: Noun- 1. Cyclery: Shop that sells bicycles :: Boutique: Shop that sell women's clothes and jeweler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3160" indent="-37872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**Picture- Cyclery  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3160" indent="-3787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              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**       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3160" indent="-3787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                                                            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*                                                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2"/>
          <a:stretch/>
        </p:blipFill>
        <p:spPr>
          <a:xfrm>
            <a:off x="7086600" y="4572000"/>
            <a:ext cx="1773360" cy="2112840"/>
          </a:xfrm>
          <a:prstGeom prst="rect">
            <a:avLst/>
          </a:prstGeom>
          <a:ln w="0">
            <a:noFill/>
          </a:ln>
        </p:spPr>
      </p:pic>
      <p:pic>
        <p:nvPicPr>
          <p:cNvPr id="337" name="" descr=""/>
          <p:cNvPicPr/>
          <p:nvPr/>
        </p:nvPicPr>
        <p:blipFill>
          <a:blip r:embed="rId3"/>
          <a:stretch/>
        </p:blipFill>
        <p:spPr>
          <a:xfrm>
            <a:off x="2286000" y="4267080"/>
            <a:ext cx="3200400" cy="2398680"/>
          </a:xfrm>
          <a:prstGeom prst="rect">
            <a:avLst/>
          </a:prstGeom>
          <a:ln w="0">
            <a:noFill/>
          </a:ln>
        </p:spPr>
      </p:pic>
    </p:spTree>
  </p:cSld>
  <p:transition spd="med">
    <p:cover dir="u"/>
    <p:sndAc>
      <p:stSnd>
        <p:snd r:embed="rId4" name="breeze.wav"/>
      </p:stSnd>
    </p:sndAc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2" dur="250" autoRev="1" fill="hold"/>
                                        <p:tgtEl>
                                          <p:spTgt spid="33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indefinite"/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Title 1" descr=""/>
          <p:cNvPicPr/>
          <p:nvPr/>
        </p:nvPicPr>
        <p:blipFill>
          <a:blip r:embed="rId1"/>
          <a:stretch/>
        </p:blipFill>
        <p:spPr>
          <a:xfrm>
            <a:off x="530280" y="2219400"/>
            <a:ext cx="8242200" cy="154764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 spd="slow">
    <p:push dir="u"/>
    <p:sndAc>
      <p:stSnd>
        <p:snd r:embed="rId2" name="breeze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So how did you do?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6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6 out of 6- WOWZERS! You are going to ace that SAT!!! </a:t>
            </a:r>
            <a:r>
              <a:rPr b="0" lang="en-US" sz="26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5 out of 6- Whoa! You did amazing, but you just might want to go back to the one you missed. </a:t>
            </a:r>
            <a:r>
              <a:rPr b="0" lang="en-US" sz="26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4 out of 6- Cool! You certainly know most of the material just go back one more time. </a:t>
            </a:r>
            <a:r>
              <a:rPr b="0" lang="en-US" sz="26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3 or less out of 6- Sorry but you need a retest. You get some of the material but the rest is still kinda foggy. </a:t>
            </a:r>
            <a:r>
              <a:rPr b="0" lang="en-US" sz="2600" spc="-1" strike="noStrike">
                <a:solidFill>
                  <a:srgbClr val="ffffff"/>
                </a:solidFill>
                <a:latin typeface="Wingdings"/>
                <a:ea typeface="Wingdings"/>
              </a:rPr>
              <a:t></a:t>
            </a: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 spd="slow">
    <p:newsflash/>
    <p:sndAc>
      <p:stSnd>
        <p:snd r:embed="rId1" name="camera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-360" y="1447560"/>
            <a:ext cx="883908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  </a:t>
            </a:r>
            <a:r>
              <a:rPr b="0" lang="en-US" sz="4200" spc="-1" strike="noStrike">
                <a:solidFill>
                  <a:srgbClr val="ff5c9c"/>
                </a:solidFill>
                <a:latin typeface="Wingdings"/>
                <a:ea typeface="Wingdings"/>
              </a:rPr>
              <a:t></a:t>
            </a: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NOW GO ACE THAT SAT!!!!</a:t>
            </a:r>
            <a:r>
              <a:rPr b="0" lang="en-US" sz="4200" spc="-1" strike="noStrike">
                <a:solidFill>
                  <a:srgbClr val="ff5c9c"/>
                </a:solidFill>
                <a:latin typeface="Wingdings"/>
                <a:ea typeface="Wingdings"/>
              </a:rPr>
              <a:t>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pic>
        <p:nvPicPr>
          <p:cNvPr id="341" name="" descr=""/>
          <p:cNvPicPr/>
          <p:nvPr/>
        </p:nvPicPr>
        <p:blipFill>
          <a:blip r:embed="rId1"/>
          <a:stretch/>
        </p:blipFill>
        <p:spPr>
          <a:xfrm>
            <a:off x="3200400" y="609480"/>
            <a:ext cx="736560" cy="903240"/>
          </a:xfrm>
          <a:prstGeom prst="rect">
            <a:avLst/>
          </a:prstGeom>
          <a:ln w="0">
            <a:noFill/>
          </a:ln>
        </p:spPr>
      </p:pic>
      <p:pic>
        <p:nvPicPr>
          <p:cNvPr id="342" name="" descr=""/>
          <p:cNvPicPr/>
          <p:nvPr/>
        </p:nvPicPr>
        <p:blipFill>
          <a:blip r:embed="rId2"/>
          <a:stretch/>
        </p:blipFill>
        <p:spPr>
          <a:xfrm>
            <a:off x="5562720" y="3809880"/>
            <a:ext cx="2666880" cy="2621160"/>
          </a:xfrm>
          <a:prstGeom prst="rect">
            <a:avLst/>
          </a:prstGeom>
          <a:ln w="0">
            <a:noFill/>
          </a:ln>
        </p:spPr>
      </p:pic>
      <p:pic>
        <p:nvPicPr>
          <p:cNvPr id="343" name="" descr=""/>
          <p:cNvPicPr/>
          <p:nvPr/>
        </p:nvPicPr>
        <p:blipFill>
          <a:blip r:embed="rId3"/>
          <a:stretch/>
        </p:blipFill>
        <p:spPr>
          <a:xfrm>
            <a:off x="2286000" y="1371600"/>
            <a:ext cx="738360" cy="892080"/>
          </a:xfrm>
          <a:prstGeom prst="rect">
            <a:avLst/>
          </a:prstGeom>
          <a:ln w="0">
            <a:noFill/>
          </a:ln>
        </p:spPr>
      </p:pic>
      <p:pic>
        <p:nvPicPr>
          <p:cNvPr id="344" name="" descr=""/>
          <p:cNvPicPr/>
          <p:nvPr/>
        </p:nvPicPr>
        <p:blipFill>
          <a:blip r:embed="rId4"/>
          <a:stretch/>
        </p:blipFill>
        <p:spPr>
          <a:xfrm>
            <a:off x="304920" y="57913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345" name="" descr=""/>
          <p:cNvPicPr/>
          <p:nvPr/>
        </p:nvPicPr>
        <p:blipFill>
          <a:blip r:embed="rId5"/>
          <a:stretch/>
        </p:blipFill>
        <p:spPr>
          <a:xfrm>
            <a:off x="3429000" y="4114800"/>
            <a:ext cx="666720" cy="666720"/>
          </a:xfrm>
          <a:prstGeom prst="rect">
            <a:avLst/>
          </a:prstGeom>
          <a:ln w="0">
            <a:noFill/>
          </a:ln>
        </p:spPr>
      </p:pic>
      <p:pic>
        <p:nvPicPr>
          <p:cNvPr id="346" name="" descr=""/>
          <p:cNvPicPr/>
          <p:nvPr/>
        </p:nvPicPr>
        <p:blipFill>
          <a:blip r:embed="rId6"/>
          <a:stretch/>
        </p:blipFill>
        <p:spPr>
          <a:xfrm>
            <a:off x="1905120" y="5029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  <p:sndAc>
      <p:stSnd>
        <p:snd r:embed="rId7" name="applause.wav"/>
      </p:stSnd>
    </p:sndAc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8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8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8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8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0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17bbfd"/>
                                      </p:to>
                                    </p:animClr>
                                    <p:animClr clrSpc="rgb">
                                      <p:cBhvr>
                                        <p:cTn id="91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17bbfd"/>
                                      </p:to>
                                    </p:animClr>
                                    <p:set>
                                      <p:cBhvr>
                                        <p:cTn id="92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93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9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95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8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8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8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8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8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8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8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8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8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8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8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8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9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30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1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32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3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34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Title 1" descr=""/>
          <p:cNvPicPr/>
          <p:nvPr/>
        </p:nvPicPr>
        <p:blipFill>
          <a:blip r:embed="rId1"/>
          <a:stretch/>
        </p:blipFill>
        <p:spPr>
          <a:xfrm>
            <a:off x="450720" y="1670040"/>
            <a:ext cx="8328240" cy="332892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  <p:sndAc>
      <p:stSnd>
        <p:snd r:embed="rId2" name="arrow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Title 1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8242560" cy="1414440"/>
          </a:xfrm>
          <a:prstGeom prst="rect">
            <a:avLst/>
          </a:prstGeom>
          <a:ln w="0">
            <a:noFill/>
          </a:ln>
        </p:spPr>
      </p:pic>
      <p:sp>
        <p:nvSpPr>
          <p:cNvPr id="307" name=""/>
          <p:cNvSpPr txBox="1"/>
          <p:nvPr/>
        </p:nvSpPr>
        <p:spPr>
          <a:xfrm>
            <a:off x="228240" y="1142640"/>
            <a:ext cx="6629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4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1.Excitement: Ant- Depression * Picture-Excitement</a:t>
            </a: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2.Abandonment:Abanddonment:Abanddon ::Disapear:Appear ** Picture-Abandonmen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3.Accomplishment Syn- To achieve something Accomplishment:Ment :: Happily:ily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4.Disapointment Syn- Dash hopes *** Picture-Disappointmen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*                        **                    ***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8" name="TextBox 5"/>
          <p:cNvSpPr/>
          <p:nvPr/>
        </p:nvSpPr>
        <p:spPr>
          <a:xfrm>
            <a:off x="7238880" y="1752480"/>
            <a:ext cx="17528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TextBox 6"/>
          <p:cNvSpPr/>
          <p:nvPr/>
        </p:nvSpPr>
        <p:spPr>
          <a:xfrm>
            <a:off x="6553080" y="2209680"/>
            <a:ext cx="2590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Part of Speec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1.nou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2.nou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3.nou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4.nou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0" name="" descr=""/>
          <p:cNvPicPr/>
          <p:nvPr/>
        </p:nvPicPr>
        <p:blipFill>
          <a:blip r:embed="rId2"/>
          <a:stretch/>
        </p:blipFill>
        <p:spPr>
          <a:xfrm>
            <a:off x="3276720" y="4343400"/>
            <a:ext cx="2152440" cy="1873080"/>
          </a:xfrm>
          <a:prstGeom prst="rect">
            <a:avLst/>
          </a:prstGeom>
          <a:ln w="0">
            <a:noFill/>
          </a:ln>
        </p:spPr>
      </p:pic>
      <p:pic>
        <p:nvPicPr>
          <p:cNvPr id="311" name="" descr=""/>
          <p:cNvPicPr/>
          <p:nvPr/>
        </p:nvPicPr>
        <p:blipFill>
          <a:blip r:embed="rId3"/>
          <a:stretch/>
        </p:blipFill>
        <p:spPr>
          <a:xfrm>
            <a:off x="6019920" y="4114800"/>
            <a:ext cx="1866960" cy="1866960"/>
          </a:xfrm>
          <a:prstGeom prst="rect">
            <a:avLst/>
          </a:prstGeom>
          <a:ln w="0">
            <a:noFill/>
          </a:ln>
        </p:spPr>
      </p:pic>
      <p:pic>
        <p:nvPicPr>
          <p:cNvPr id="312" name="" descr=""/>
          <p:cNvPicPr/>
          <p:nvPr/>
        </p:nvPicPr>
        <p:blipFill>
          <a:blip r:embed="rId4"/>
          <a:stretch/>
        </p:blipFill>
        <p:spPr>
          <a:xfrm>
            <a:off x="380880" y="4419720"/>
            <a:ext cx="2210040" cy="165708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u"/>
    <p:sndAc>
      <p:stSnd>
        <p:snd r:embed="rId5" name="explode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31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" dur="250" autoRev="1" fill="hold"/>
                                        <p:tgtEl>
                                          <p:spTgt spid="31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" dur="1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40059"/>
                                      </p:to>
                                    </p:animClr>
                                    <p:animClr clrSpc="rgb">
                                      <p:cBhvr>
                                        <p:cTn id="16" dur="1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40059"/>
                                      </p:to>
                                    </p:animClr>
                                    <p:set>
                                      <p:cBhvr>
                                        <p:cTn id="17" dur="1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Title 1" descr=""/>
          <p:cNvPicPr/>
          <p:nvPr/>
        </p:nvPicPr>
        <p:blipFill>
          <a:blip r:embed="rId1"/>
          <a:stretch/>
        </p:blipFill>
        <p:spPr>
          <a:xfrm>
            <a:off x="298440" y="2523960"/>
            <a:ext cx="8242200" cy="154800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  <p:sndAc>
      <p:stSnd>
        <p:snd r:embed="rId2" name="hammer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Title 1" descr=""/>
          <p:cNvPicPr/>
          <p:nvPr/>
        </p:nvPicPr>
        <p:blipFill>
          <a:blip r:embed="rId1"/>
          <a:stretch/>
        </p:blipFill>
        <p:spPr>
          <a:xfrm>
            <a:off x="378000" y="2792520"/>
            <a:ext cx="8242200" cy="1414440"/>
          </a:xfrm>
          <a:prstGeom prst="rect">
            <a:avLst/>
          </a:prstGeom>
          <a:ln w="0">
            <a:noFill/>
          </a:ln>
        </p:spPr>
      </p:pic>
    </p:spTree>
  </p:cSld>
  <p:transition spd="slow">
    <p:circle/>
    <p:sndAc>
      <p:stSnd>
        <p:snd r:embed="rId2" name="laser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Title 1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272440" cy="1547640"/>
          </a:xfrm>
          <a:prstGeom prst="rect">
            <a:avLst/>
          </a:prstGeom>
          <a:ln w="0">
            <a:noFill/>
          </a:ln>
        </p:spPr>
      </p:pic>
      <p:sp>
        <p:nvSpPr>
          <p:cNvPr id="316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1.Predecessor: Noun- 1. Syn: Prototype 2. Ant: Successo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2. Precede: Verb- 1. Analogy- Precede: Ahead of :: Hate: Dislike 2. Ant: Af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 spd="slow">
    <p:split dir="in" orient="vert"/>
    <p:sndAc>
      <p:stSnd>
        <p:snd r:embed="rId2" name="push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Title 1" descr=""/>
          <p:cNvPicPr/>
          <p:nvPr/>
        </p:nvPicPr>
        <p:blipFill>
          <a:blip r:embed="rId1"/>
          <a:stretch/>
        </p:blipFill>
        <p:spPr>
          <a:xfrm>
            <a:off x="378000" y="2584440"/>
            <a:ext cx="8242200" cy="1414440"/>
          </a:xfrm>
          <a:prstGeom prst="rect">
            <a:avLst/>
          </a:prstGeom>
          <a:ln w="0">
            <a:noFill/>
          </a:ln>
        </p:spPr>
      </p:pic>
    </p:spTree>
  </p:cSld>
  <p:transition spd="slow">
    <p:wipe dir="u"/>
    <p:sndAc>
      <p:stSnd>
        <p:snd r:embed="rId2" name="suction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Title 1" descr=""/>
          <p:cNvPicPr/>
          <p:nvPr/>
        </p:nvPicPr>
        <p:blipFill>
          <a:blip r:embed="rId1"/>
          <a:stretch/>
        </p:blipFill>
        <p:spPr>
          <a:xfrm>
            <a:off x="450720" y="2432160"/>
            <a:ext cx="8242560" cy="141444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  <p:sndAc>
      <p:stSnd>
        <p:snd r:embed="rId2" name="suction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5T19:14:44Z</dcterms:created>
  <dc:creator>200227631</dc:creator>
  <dc:description/>
  <dc:language>en-US</dc:language>
  <cp:lastModifiedBy>John Pham</cp:lastModifiedBy>
  <dcterms:modified xsi:type="dcterms:W3CDTF">2010-10-07T01:03:31Z</dcterms:modified>
  <cp:revision>7</cp:revision>
  <dc:subject/>
  <dc:title> SAT REVIEW TEST!!!! </dc:title>
</cp:coreProperties>
</file>