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0B3-21AD-4F23-B426-22872FF7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FFE0-C116-473A-AFEB-29B60360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E339-65E7-4309-8C29-E51043C3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DA2-84F5-4CEC-8696-51E9FD1B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B196-FE51-4081-8D5B-71A88E3F6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5C8B-87D0-4E7B-BD4A-5A2D32FD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F8A98-D1F2-440C-A06F-8E9D3C10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7575-9010-475F-A22E-EE26816E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2CF9-75E3-43B5-AD82-D47542AE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D954-16F2-44C7-9F98-711AC9F9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71BD-FE6B-4D8E-87B9-7B95D84A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50C-A171-4639-A23F-16DAA9C5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BC09-81CE-4132-B12D-4952C541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797A-91B2-455F-8D6D-7BC6EDA5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0920-F91B-4BD0-96F3-2890F87E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BBBF-657D-4ACF-9F83-DAF5181F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DE72-96FF-42D6-90B9-16AFDDC7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90591-2E22-4131-ACEF-5E2D1D94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40480-173D-40AB-B373-CBB3F2A7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77D13-11AE-4604-B729-F053BE9D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1BFFD-3A22-4174-8716-8591102A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0706F-5864-41C2-A91C-0D7CEB53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7BB9-C599-47EC-9126-CAA15171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A1BFE-1ACA-4F3D-A662-A0967A614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5F359-A9E9-4A9C-A2E3-12DECC5E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D0E8D-71D0-4CC6-BC13-E7329034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E264F-6BC6-447E-B319-5BE7D0AD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92F35-B55B-4ADB-AE48-35F7DCB1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85543-5670-435E-B1D2-6B0CAE37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723E-2FA7-4BEA-BB88-38601EB2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73BE-9949-4EAC-9720-D140599A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1C78-40AA-4C6B-BBD5-15C278A0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E4DE-7FF6-4E8A-AB63-433BBCCA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0BA-3AF4-47CC-9F7F-EDE65E43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65528-2BA9-4A88-A61F-DB2C4F28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2E88A-98C3-4951-B551-F5CD1479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30A64-F649-444A-B2B6-F415B325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8BF85-810D-4EF4-98D6-505DFF61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182A1-14C1-4DEA-9AD3-CC57F91A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03540-2883-4942-8FCC-8453F48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78776-2444-4F42-A9DF-EF652007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753ED-9CB2-4AD8-9372-E395C2A8C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281D2-5787-4EDB-9C64-08850F38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8B12-95D7-45B9-8E1E-58D3F1D7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39C-1921-4BE8-874D-48905D5C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5DB-AB2B-48DA-9D45-3BC1FDA4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5D9-3AF1-4186-A07B-85C493A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942-F7CB-42FC-A26C-8272D606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96FC-CC3F-4820-97BF-BBF1C81D41B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A7DD4-E13F-4C48-9A5E-AE0596DE7C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1904-05C0-427D-847D-49BC413BFF7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F428-449F-4A4F-B298-8BEE32CB04D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ood luck!!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does the root word cycle mean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: circu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mi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picyc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ood luck on your test!!!!;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.1 –what does the suffix ment mean??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228240"/>
            <a:ext cx="822960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The answer :expressing the means or result of an action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band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complish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appoint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2.What does the prefix pre and post mean??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: pre=before post= af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ep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…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gradu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oster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does the root word dict/dic mean?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Answer:def- to say or declare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cta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ct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hat does the root word log mean?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swer: wor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 examples are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onolog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pilog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9:15:09Z</dcterms:created>
  <dc:creator>200328792</dc:creator>
  <dc:description/>
  <dc:language>en-US</dc:language>
  <cp:lastModifiedBy>200328792</cp:lastModifiedBy>
  <dcterms:modified xsi:type="dcterms:W3CDTF">2010-10-05T19:34:55Z</dcterms:modified>
  <cp:revision>2</cp:revision>
  <dc:subject/>
  <dc:title>SAT review study guide</dc:title>
</cp:coreProperties>
</file>