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EF38-1D1C-4854-8DB9-2DFE47051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797C-42E1-49AD-B631-547BC7629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6E15-1C37-4CB5-8F49-DDD231B00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6FDB-3443-4412-A39F-A75BBF52D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21CA-1DF3-476C-91D9-63E9DA820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0E3-7285-4F39-A009-5AEB96C1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FBA-4EB0-4E84-840F-CCACDA73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B5E-3499-4182-90FE-F46F9980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AFE7-586A-4A6C-B557-B40AB9B7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7503-960F-4A84-9426-29DDD5D0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BC9-903A-401D-BA08-0418DB88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7065-56CE-4B82-9CF9-B4F11A16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0A9-DD35-4931-9733-85936C66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1578-FEFE-4E9B-81AC-84F0306E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644-9752-4BFD-BFDD-2897CB8F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D97-0A32-430C-BE8A-EB77A953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0EC-C0DE-43A9-BA97-C48CF943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EA3F-29DA-4D99-A5AB-BBFF407D5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13.xml"/><Relationship Id="rId8" Type="http://schemas.openxmlformats.org/officeDocument/2006/relationships/slide" Target="slide18.xml"/><Relationship Id="rId9" Type="http://schemas.openxmlformats.org/officeDocument/2006/relationships/slide" Target="slide4.xml"/><Relationship Id="rId10" Type="http://schemas.openxmlformats.org/officeDocument/2006/relationships/slide" Target="slide9.xml"/><Relationship Id="rId11" Type="http://schemas.openxmlformats.org/officeDocument/2006/relationships/slide" Target="slide14.xml"/><Relationship Id="rId12" Type="http://schemas.openxmlformats.org/officeDocument/2006/relationships/slide" Target="slide1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6.xml"/><Relationship Id="rId18" Type="http://schemas.openxmlformats.org/officeDocument/2006/relationships/slide" Target="slide11.xml"/><Relationship Id="rId19" Type="http://schemas.openxmlformats.org/officeDocument/2006/relationships/slide" Target="slide16.xml"/><Relationship Id="rId20" Type="http://schemas.openxmlformats.org/officeDocument/2006/relationships/slide" Target="slide21.xml"/><Relationship Id="rId21" Type="http://schemas.openxmlformats.org/officeDocument/2006/relationships/hyperlink" Target="http://lanierfootball.com/" TargetMode="External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523880" y="34452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anier High School SAT Jeop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143000" y="1143000"/>
          <a:ext cx="670572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s of Spe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ynony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tony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a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6" descr="Lanier Longhorn Football">
            <a:hlinkClick r:id="rId21"/>
          </p:cNvPr>
          <p:cNvPicPr/>
          <p:nvPr/>
        </p:nvPicPr>
        <p:blipFill>
          <a:blip r:embed="rId22"/>
          <a:srcRect l="0" t="0" r="81177" b="0"/>
          <a:stretch/>
        </p:blipFill>
        <p:spPr>
          <a:xfrm>
            <a:off x="76320" y="76320"/>
            <a:ext cx="13842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logue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n introdu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tertainment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mu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Prehistoric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moder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Postscript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greet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Entertainment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bored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Basement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tti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2237760" y="1752480"/>
            <a:ext cx="515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n antony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 “Postpone” is 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prepa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24800" y="1752480"/>
            <a:ext cx="368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torcycle is to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________ is to peda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icycl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2568960" y="1523880"/>
            <a:ext cx="381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line is to Can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tic is to  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90920" y="382104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ase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233080" y="1752480"/>
            <a:ext cx="415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ce is to Col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gicize is to 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590920" y="412596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rea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237760" y="1752480"/>
            <a:ext cx="49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Enchantment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no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237400" y="1752480"/>
            <a:ext cx="49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ot is to War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chantment is to 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819520" y="42022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spel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2235960" y="1752480"/>
            <a:ext cx="517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essert is to Trea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ssment is to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2819520" y="420228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t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32000" y="1752480"/>
            <a:ext cx="425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Postpone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ver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232360" y="1752480"/>
            <a:ext cx="42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Prologue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no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33440" y="17524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Logicize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ver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2224800" y="1752480"/>
            <a:ext cx="394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word “Diction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this part of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no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sessment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tes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epare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make rea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39560" y="1752480"/>
            <a:ext cx="56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example of a synonym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ction” is thi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TextBox 5"/>
          <p:cNvSpPr/>
          <p:nvPr/>
        </p:nvSpPr>
        <p:spPr>
          <a:xfrm>
            <a:off x="2590920" y="3429000"/>
            <a:ext cx="37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verbi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Melanie</cp:lastModifiedBy>
  <dcterms:modified xsi:type="dcterms:W3CDTF">2010-10-06T01:53:19Z</dcterms:modified>
  <cp:revision>10</cp:revision>
  <dc:subject/>
  <dc:title>Slide 1</dc:title>
</cp:coreProperties>
</file>