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8.jpeg" ContentType="image/jpeg"/>
  <Override PartName="/ppt/media/image15.png" ContentType="image/png"/>
  <Override PartName="/ppt/media/image16.png" ContentType="image/png"/>
  <Override PartName="/ppt/media/image17.png" ContentType="image/png"/>
  <Override PartName="/ppt/media/type.wav" ContentType="audio/x-wav"/>
  <Override PartName="/ppt/media/image6.jpeg" ContentType="image/jpeg"/>
  <Override PartName="/ppt/media/image14.png" ContentType="image/png"/>
  <Override PartName="/ppt/media/image12.png" ContentType="image/png"/>
  <Override PartName="/ppt/media/push.wav" ContentType="audio/x-wav"/>
  <Override PartName="/ppt/media/image11.png" ContentType="image/png"/>
  <Override PartName="/ppt/media/image13.png" ContentType="image/png"/>
  <Override PartName="/ppt/media/hammer.wav" ContentType="audio/x-wav"/>
  <Override PartName="/ppt/media/image20.png" ContentType="image/png"/>
  <Override PartName="/ppt/media/image1.png" ContentType="image/png"/>
  <Override PartName="/ppt/media/image29.wmf" ContentType="image/x-wmf"/>
  <Override PartName="/ppt/media/suction.wav" ContentType="audio/x-wav"/>
  <Override PartName="/ppt/media/image2.png" ContentType="image/png"/>
  <Override PartName="/ppt/media/drumroll.wav" ContentType="audio/x-wav"/>
  <Override PartName="/ppt/media/image30.wmf" ContentType="image/x-wmf"/>
  <Override PartName="/ppt/media/image34.gif" ContentType="image/gif"/>
  <Override PartName="/ppt/media/image21.png" ContentType="image/png"/>
  <Override PartName="/ppt/media/explode.wav" ContentType="audio/x-wav"/>
  <Override PartName="/ppt/media/image19.png" ContentType="image/png"/>
  <Override PartName="/ppt/media/image22.wmf" ContentType="image/x-wmf"/>
  <Override PartName="/ppt/media/wind.wav" ContentType="audio/x-wav"/>
  <Override PartName="/ppt/media/image24.png" ContentType="image/png"/>
  <Override PartName="/ppt/media/image3.png" ContentType="image/png"/>
  <Override PartName="/ppt/media/image32.gif" ContentType="image/gif"/>
  <Override PartName="/ppt/media/image25.png" ContentType="image/png"/>
  <Override PartName="/ppt/media/image26.png" ContentType="image/png"/>
  <Override PartName="/ppt/media/image33.gif" ContentType="image/gif"/>
  <Override PartName="/ppt/media/image9.png" ContentType="image/png"/>
  <Override PartName="/ppt/media/cashreg.wav" ContentType="audio/x-wav"/>
  <Override PartName="/ppt/media/image27.jpeg" ContentType="image/jpeg"/>
  <Override PartName="/ppt/media/image10.png" ContentType="image/png"/>
  <Override PartName="/ppt/media/image31.wmf" ContentType="image/x-wmf"/>
  <Override PartName="/ppt/media/image7.jpeg" ContentType="image/jpeg"/>
  <Override PartName="/ppt/media/voltage.wav" ContentType="audio/x-wav"/>
  <Override PartName="/ppt/media/breeze.wav" ContentType="audio/x-wav"/>
  <Override PartName="/ppt/media/camera.wav" ContentType="audio/x-wav"/>
  <Override PartName="/ppt/media/applause.wav" ContentType="audio/x-wav"/>
  <Override PartName="/ppt/media/image5.png" ContentType="image/png"/>
  <Override PartName="/ppt/media/image8.jpeg" ContentType="image/jpeg"/>
  <Override PartName="/ppt/media/image28.jpeg" ContentType="image/jpeg"/>
  <Override PartName="/ppt/media/whoosh.wav" ContentType="audio/x-wav"/>
  <Override PartName="/ppt/media/image23.wmf" ContentType="image/x-wmf"/>
  <Override PartName="/ppt/media/image4.png" ContentType="image/png"/>
  <Override PartName="/ppt/media/laser.wav" ContentType="audio/x-wav"/>
  <Override PartName="/ppt/media/arrow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DF21-D163-4F03-9891-477B839E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6C8B-EF8B-4FDA-95C9-C060C175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4521-CBE9-48A7-9AD8-7017AF9B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488-AB7F-4A86-A5C8-F99B4884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AC52-FB4B-4BC0-8007-096C5609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1FFC-4764-4CB8-9C99-0F81A699C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EFEB-9297-415E-9AD9-85484513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A465-6277-464B-AB62-43D7DCBD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D095-CCBC-467D-BCED-77585624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51DD-EAB0-404C-BBBF-064CCD08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0BDE-0AB1-490E-AC9C-4595BD55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D75-C6E4-46D8-9D78-9DA8BB7D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7652-0824-4885-BFA8-845B3660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5B53-B3DA-47DD-8CD6-591C032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0F18-800B-4CF6-A16D-EA7E260F9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732E-18F5-473C-94C1-80BDD8D7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2C0E-2DA6-4DA5-A8E5-0B901445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8F61-5D5D-4AE6-A3AF-91542707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96A0B-788B-47B8-A371-D5E03C76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F1193-1439-421E-8B30-48C88EFB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93DE4-2EF8-411A-8A4A-5A56E638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B638F-A181-4229-80A1-25A9ACE1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05E4-E8CD-47FB-966E-44BB5ABC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446D-2646-4F3D-8918-65EE3A9D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207A-77C5-47CF-B038-B781ED96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F7455-FF54-47C4-B0BA-3947471F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66BFA-CEBC-47F6-BA34-72EA9B5C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8611E-9CB4-44D1-9847-458FDCC3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529F8-C252-4D72-A402-C2F65F42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1F7E9-17B6-4B0F-BD76-F59A87C6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F1F1-EC0A-4B4B-94BA-FAD0B89A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3CBE7-A9BD-4950-A14C-84A3BB80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36FD2-A5DF-4D42-BB4E-F2458A0B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9BAE-F1F7-4B96-BA4A-24B5F5A2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15AD0-D298-4E2D-A776-8841B799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1F89-A74C-48E4-B72E-7EA3CCC0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49D10-BB2C-4DF5-88DF-395E3C44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E9C1-D7D3-4322-91B2-CB557B53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5233A-E3A1-4646-AC26-781D7927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BE34-82B5-4BA2-B33B-551597C4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A2E9-1371-4CE7-ADFB-41C99267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40B74-CE3B-4F2F-9098-A42346E9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AD644-64DD-4D36-B936-6D96451E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42BF8-1F1A-44B0-9B3D-36FF1214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95BC-A243-4A8E-8BE1-E88E9C15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BAED0-AD9B-488B-83C4-F8C447EE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49EE3-6BAD-4EF1-9ADD-B37AF65A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B7BD0-7551-49CF-8A63-2A20B771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3321C-C169-42B8-A07F-9A96B23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51F9E-5F47-4BC7-A1BB-61E5A0CE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3F090-2DC8-4239-AD77-18EDB673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A8787-C820-43C3-885A-6B7BC7C5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EE009-5E31-4D41-9158-7DFF1686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1C642-B538-4CD3-9EAD-644A6623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10E85-1A40-4588-83EA-0972E9AE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766-AAFB-4909-8640-85ECC33A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BAD83-E3AA-4370-BC46-4D75DFCA4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35ED4-C862-405B-9CAD-15D4805D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B8AAD-CD35-482D-8D1D-AEBD0A1B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CAC9A-7740-4041-8D6A-7A639239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7B19B-8BB8-47AC-89A7-BA1CEB31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C30DF-17FB-4E5C-9B16-BC318E61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AA456-B38B-41D1-81A6-140ACED4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E12D9-A6AC-46BA-AB78-FD606741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092EA-8544-424F-BA46-EBA37684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A15CB-F7A2-4A84-A3E0-2CE49692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2CD9-F612-47F8-B45D-9DF721DD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356DE-93CC-41F7-A43A-005CF93B7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1CD13-97DE-47C9-80BB-756D7A420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E254F-BC05-4C1F-A846-D14DB952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1C7C7-69F9-41B3-8D43-7AE3AC15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FFAD6-3ED8-4565-8AC4-E4C59FCF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C04AB-9168-4F84-A97A-32B7C390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8F6A5-DE79-4114-960F-10A8254B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ADBDF-AD3F-4387-996B-1CE7BB2C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61CB4-7019-44F2-80D9-4CEBE201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D362E-BEE5-45BB-A320-5FEAFFBB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D2D-703F-4BA9-A4AC-1F2A9FB7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72EB6-BA31-46FD-8442-CEE3A082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A1338-DD2D-4070-ACD9-3D453FA3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6FC99-9980-4C40-B14D-191B707E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EC246-2794-48FA-A270-9361079D6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2C8C7-587E-4AE7-913A-97626E19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F02-CBC7-49A9-8A33-C44B8A7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FC38-3EFD-473C-9B7C-80A751E3037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B70F-42F8-419E-9DC7-2CF0FC73B444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8736-60B8-4D96-9201-0F46C6C5C02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4C6B-3309-4F68-9615-98F6C01E962D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C3FB-9E49-4020-A794-4459A31B0BA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E7C1-86C4-41EC-86DD-DA4392EB3FB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2C66-072E-4895-A74D-6133131812C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3" name="drumroll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Postpaid: Adj- 1.Syn- Sender of mail pays for postage 2.Ant- You have to pay for your own postag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Postdate:Verb- 1. Syn: Write a future date 2. Analogy- Postdate: Play :: Postdating: Play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diamond/>
    <p:sndAc>
      <p:stSnd>
        <p:snd r:embed="rId2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0720" y="2292480"/>
            <a:ext cx="824256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  <p:sndAc>
      <p:stSnd>
        <p:snd r:embed="rId2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82422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  <p:sndAc>
      <p:stSnd>
        <p:snd r:embed="rId2" name="whoosh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Dictionary: Noun- 1. Dictionary: Entries :: Magazine: Article 2.* Picture: Dictiona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Dictate: Verb- 1. Dictate: Dictated :: Fire: Fired 2. Syn: Command/Ord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5" name="Picture 2" descr="C:\Documents and Settings\200227631\Local Settings\Temporary Internet Files\Content.IE5\LY6GSXC0\MP900174966[1].jpg"/>
          <p:cNvPicPr/>
          <p:nvPr/>
        </p:nvPicPr>
        <p:blipFill>
          <a:blip r:embed="rId2"/>
          <a:stretch/>
        </p:blipFill>
        <p:spPr>
          <a:xfrm>
            <a:off x="4495680" y="411480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  <p:sndAc>
      <p:stSnd>
        <p:snd r:embed="rId3" name="wind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603360" y="2511360"/>
            <a:ext cx="824220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plus/>
    <p:sndAc>
      <p:stSnd>
        <p:snd r:embed="rId2" name="push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378000" y="2511360"/>
            <a:ext cx="824220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  <p:sndAc>
      <p:stSnd>
        <p:snd r:embed="rId2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Catalog: Noun- 1. Catalog: Epilogue :: Diction: Contradict 2. *Picture- Catalo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Monologue: Noun- 1. Monologue: Talk to yourself :: Dialogue: Conversation with 2 people 2.**Picture- Monologu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*                          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0" name="Picture 2" descr="C:\Documents and Settings\200227631\Local Settings\Temporary Internet Files\Content.IE5\NK6EFHYT\MC900281087[1].wmf"/>
          <p:cNvPicPr/>
          <p:nvPr/>
        </p:nvPicPr>
        <p:blipFill>
          <a:blip r:embed="rId2"/>
          <a:stretch/>
        </p:blipFill>
        <p:spPr>
          <a:xfrm>
            <a:off x="1219320" y="4343400"/>
            <a:ext cx="1280880" cy="2286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Documents and Settings\200227631\Local Settings\Temporary Internet Files\Content.IE5\LY6GSXC0\MC900060029[1].wmf"/>
          <p:cNvPicPr/>
          <p:nvPr/>
        </p:nvPicPr>
        <p:blipFill>
          <a:blip r:embed="rId3"/>
          <a:stretch/>
        </p:blipFill>
        <p:spPr>
          <a:xfrm>
            <a:off x="4419720" y="4495680"/>
            <a:ext cx="1825560" cy="1060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laser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animClr clrSpc="rgb">
                                      <p:cBhvr>
                                        <p:cTn id="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2d2d2"/>
                                      </p:to>
                                    </p:animClr>
                                    <p:set>
                                      <p:cBhvr>
                                        <p:cTn id="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0720" y="243216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  <p:sndAc>
      <p:stSnd>
        <p:snd r:embed="rId2" name="voltage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0720" y="2511360"/>
            <a:ext cx="8242560" cy="1408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suctio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242560" cy="14083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 txBox="1"/>
          <p:nvPr/>
        </p:nvSpPr>
        <p:spPr>
          <a:xfrm>
            <a:off x="15228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 Epicycle: Noun- 1. Epi: Cycle :: Bi:Bicycle 2. 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Cyclery: Noun- 1. Cyclery: Shop that sells bicycles :: Boutique: Shop that sell women's clothes and jeweler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*Picture- Cyclery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*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086600" y="4572000"/>
            <a:ext cx="1773360" cy="21128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  <p:sndAc>
      <p:stSnd>
        <p:snd r:embed="rId4" name="breeze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250" autoRev="1" fill="hold"/>
                                        <p:tgtEl>
                                          <p:spTgt spid="3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530280" y="2219400"/>
            <a:ext cx="8242200" cy="15476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sh dir="u"/>
    <p:sndAc>
      <p:stSnd>
        <p:snd r:embed="rId2" name="breez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So how did you do?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6 out of 6- WOWZERS! You are going to ace that SAT!!!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5 out of 6- Whoa! You did amazing, but you just might want to go back to the one you missed.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4 out of 6- Cool! You certainly know most of the material just go back one more time.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3 or less out of 6- Sorry but you need a retest. You get some of the material but the rest is still kinda foggy.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newsflash/>
    <p:sndAc>
      <p:stSnd>
        <p:snd r:embed="rId1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447560"/>
            <a:ext cx="8839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  </a:t>
            </a:r>
            <a:r>
              <a:rPr b="0" lang="en-US" sz="4200" spc="-1" strike="noStrike">
                <a:solidFill>
                  <a:srgbClr val="ff5c9c"/>
                </a:solidFill>
                <a:latin typeface="Wingdings"/>
                <a:ea typeface="Wingdings"/>
              </a:rPr>
              <a:t></a:t>
            </a: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NOW GO ACE THAT SAT!!!!</a:t>
            </a:r>
            <a:r>
              <a:rPr b="0" lang="en-US" sz="4200" spc="-1" strike="noStrike">
                <a:solidFill>
                  <a:srgbClr val="ff5c9c"/>
                </a:solidFill>
                <a:latin typeface="Wingdings"/>
                <a:ea typeface="Wingdings"/>
              </a:rPr>
              <a:t>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3200400" y="609480"/>
            <a:ext cx="736560" cy="9032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5562720" y="3809880"/>
            <a:ext cx="2666880" cy="262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2286000" y="1371600"/>
            <a:ext cx="738360" cy="89208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304920" y="5791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3429000" y="411480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1905120" y="5029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7" name="applause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17bbfd"/>
                                      </p:to>
                                    </p:animClr>
                                    <p:animClr clrSpc="rgb">
                                      <p:cBhvr>
                                        <p:cTn id="9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17bbfd"/>
                                      </p:to>
                                    </p:animClr>
                                    <p:set>
                                      <p:cBhvr>
                                        <p:cTn id="9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9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450720" y="1670040"/>
            <a:ext cx="8328240" cy="332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242560" cy="14144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228240" y="1142640"/>
            <a:ext cx="6629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.Excitement: Ant- Depression * Picture-Excitement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.Abandonment:Abanddonment:Abanddon ::Disapear:Appear ** Picture-Abandon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.Accomplishment Syn- To achieve something Accomplishment:Ment :: Happily:i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.Disapointment Syn- Dash hopes *** Picture-Disappointme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*                        **                    ***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TextBox 5"/>
          <p:cNvSpPr/>
          <p:nvPr/>
        </p:nvSpPr>
        <p:spPr>
          <a:xfrm>
            <a:off x="7238880" y="1752480"/>
            <a:ext cx="1752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Box 6"/>
          <p:cNvSpPr/>
          <p:nvPr/>
        </p:nvSpPr>
        <p:spPr>
          <a:xfrm>
            <a:off x="6553080" y="220968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art of Spee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1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3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.no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2152440" cy="18730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6019920" y="411480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380880" y="4419720"/>
            <a:ext cx="2210040" cy="165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  <p:sndAc>
      <p:stSnd>
        <p:snd r:embed="rId5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298440" y="2523960"/>
            <a:ext cx="8242200" cy="154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  <p:sndAc>
      <p:stSnd>
        <p:snd r:embed="rId2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378000" y="2792520"/>
            <a:ext cx="82422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  <p:sndAc>
      <p:stSnd>
        <p:snd r:embed="rId2" name="las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72440" cy="154764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.Predecessor: Noun- 1. Syn: Prototype 2. Ant: Success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. Precede: Verb- 1. Analogy- Precede: Ahead of :: Hate: Dislike 2. Ant: Af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split dir="in" orient="vert"/>
    <p:sndAc>
      <p:stSnd>
        <p:snd r:embed="rId2" name="push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378000" y="2584440"/>
            <a:ext cx="824220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  <p:sndAc>
      <p:stSnd>
        <p:snd r:embed="rId2" name="suctio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0720" y="2432160"/>
            <a:ext cx="8242560" cy="14144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  <p:sndAc>
      <p:stSnd>
        <p:snd r:embed="rId2" name="suction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9:14:44Z</dcterms:created>
  <dc:creator>200227631</dc:creator>
  <dc:description/>
  <dc:language>en-US</dc:language>
  <cp:lastModifiedBy>John Pham</cp:lastModifiedBy>
  <dcterms:modified xsi:type="dcterms:W3CDTF">2010-10-07T01:03:31Z</dcterms:modified>
  <cp:revision>7</cp:revision>
  <dc:subject/>
  <dc:title> SAT REVIEW TEST!!!! </dc:title>
</cp:coreProperties>
</file>