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1035-6D7D-494E-997F-1D9A31295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150E-B85B-42F0-A30F-4DFAC173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22772-19F4-4F07-94F2-ABDF48A3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8A611-5E19-419E-AAF4-6E7A7397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B5AC9-F512-46B4-AAC7-5B7B11B2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72FDE-4663-444D-A4BE-21FB514E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2113A-1BB1-4AFD-AEC3-09E716E1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1BE18-6AF3-45D6-A4E7-F32FDCAC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422E0-7A83-4C40-8D37-0F2D47EC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EE1BF-73F3-4A10-99BB-B39A8CFA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E4016-FA03-457B-8065-D7240F3A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142AF-4608-4BF6-865D-FBBBC4D2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F6DA-488C-42C5-8002-781AC690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3E14A-9C25-4131-9CA5-54331E89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450EA-2DDF-44AC-B866-502CEF936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62831-AD46-4E5A-A752-8118E026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50B91-9880-4F5D-8912-24240D2B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CFD12-0EB6-4A25-AADD-3F646FB9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2E47E-E687-42DC-8AE2-0B5E92E0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9DFCC-6FCF-4223-9932-1BDC0F19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8E886-278B-421E-B378-AE9B9821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9DDDF-D587-470F-8677-4BE8959E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F439CB-3D85-4623-BAD7-F33450E9B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26F6-FDD2-4D3A-BD36-E839EB34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E46E8-7757-4278-BCEE-DA31D2DB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B79D9-F581-466A-8DE8-DF6A0913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729E2-D4D6-455A-A084-72455E87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6DB68-2544-41BF-910F-2C7E9385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0FD44-2458-4DEA-88EB-04B54B8F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F1D94-0118-4734-AF38-D14F9E68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0A221-D76A-4176-A93B-7FEED4B4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78D04-C796-47ED-9137-078CA5AB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9C752C-EA46-4CED-BB40-8831A057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8FCA2-3777-4B59-90CE-3008AAB6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93FA-D2FE-4EED-A225-92D555DE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A6597-ADBA-457F-A245-EA3ED618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1E5C8-D811-482B-B7A4-D4C5AA09F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A2D4C-480D-4F25-A897-A434E273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CEC58-E2DA-4687-9F7A-218756FC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A99B9-177F-4108-BD8B-F449BA2E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21061-1EC6-4D77-95CB-7B77C6E33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77B47-0E57-4447-B423-51CFA8BE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DD03E2-BFF6-4744-B06A-925CFE5E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221EE-1307-4764-B17F-CA59775E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20F7E2-0614-4A72-9115-2867BCD0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A4EB-F7F5-4314-955E-7DEF5258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AFD2D-0011-4E08-9B88-F0F7D1AA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1D4E5-8A1D-4CBE-807D-68F58330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93FB5E-A96B-499C-982D-9910C0FF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1808C-23B0-431F-B90D-510C6CB7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7DE99-FD22-47E8-B246-FE8021BE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9C49D6-498E-4B71-B53C-14EAC4DD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B7B864-BD2D-47F1-8FB6-BDF670CD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D08CAD-C9BA-47AC-A1E0-8EB1CB82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CF2A0-91E9-40A1-B3BC-422FBFFD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0A534-91B7-44FF-8C08-0832A99A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9A6D-ED8F-4C05-B6BC-AB44CCA4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D600CB-AA2B-42A4-8E0A-DF4A55BF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C09B81-509B-4CC3-B1A9-1144E43C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1B63A-9AE6-41DC-95AC-34DB9BC2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629031-59CE-4FEA-8DB2-9CDB2C3C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09E0C0-AE01-4E4A-90F9-DCC09ABB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B1AC7D-D8C0-44E1-BFEF-753C92E3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32F525-B520-41F7-AB53-2717C342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92B5F0-5524-4279-81C7-49609138B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8EA74E-1217-4FCE-BE6A-171A1A2E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393953-3E26-4461-9846-8DB000AB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FF1D-483A-4D58-B7C1-34E6D1F4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72CC0F-9B4D-43D0-BBD2-7AE5C1A9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820140-60B5-4C23-8D15-054CA280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AB8991-94FB-4E1E-BEA5-08A92AD3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527485-ACBA-4AE4-96ED-22B899E9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8CC97D-1B10-4E3C-9647-33091FC6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D243E6-290E-482E-9DF7-A8257AD2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F3C960-20FC-4D78-BBB8-BFECE5F3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76BB5C-2C91-4887-B24E-06F8ADCF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0FAB18-6821-4E32-A95C-9F535A2EA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8300-A360-49E6-A71F-BE142E5E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C774-E6A6-433B-9116-B15A853F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9C2E2-2C68-4E69-B342-1FBBF702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8C4D-7E65-44B8-82B3-A2E4BBD4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7C30-D2CC-49D1-BC02-A1A5F5EF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FCBC-52C6-4C7E-82CC-161A07DF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5BED-1248-4750-980E-CB576242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073E-2233-4A37-830F-A1882396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1858-4430-4905-9479-9DAF9CB8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5B99F-EF51-437E-8DD2-77DC98DA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A17EE-4AA8-4A9B-B69D-E3DB5B50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6E130-2259-4197-A114-D1BB008D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357E4-A42C-46FD-A50F-AA0B0748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A9BBB-32CF-4A54-AA82-DCED5D72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9367-2820-4D33-B10A-BE468528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1C05D-14CF-453D-ACA3-27FE6F7B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BBCE8-5BB6-4132-915D-8B43713F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82F90-8622-406E-A435-6FCD370A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01544-4A8D-4F61-A9C9-1292EF63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6698B-A892-42A9-836E-BCDDC590E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70084-4501-4B30-AB30-9CBB8DF2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C68CF-0FAC-422F-915B-EB6004C9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DD5AD-5774-4586-B961-D79BFBE1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57E4F-1AE2-41C9-8D43-945321D5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CC1E2-A22C-439B-8577-24369A5B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D50D-A590-4720-8EBC-988D767A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05E96-87D6-468E-AC76-D069B43E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2EBB3-8F50-4163-A235-F81B4854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D06F2-47F6-40E2-B564-DB213FA2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785F4-FE38-47F8-96C1-521E8526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DE501-3D78-4CBD-8FAF-DAC2AF4F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1A9C7-3B60-4874-BFC9-DC5E5D4E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6D79A-0D4B-40B0-B5E2-C9B6D47A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5CD96-62CA-453D-9DEC-E7A6A30C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D7147-0204-4E33-B6E9-A7AFB0F6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7DF11-6DD2-4081-B0BE-60A83212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0164-11F6-4EE4-81E8-DAFF893A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388DC-1998-48AB-A781-8BE5BDF0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71DEC-CC01-4050-8A8D-C5425F08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D7A19-7C67-423C-8E90-B69CBAC3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4C65A-50AD-4557-81B9-ACEB448D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E2399-CC90-452C-8CF0-CD373A72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31916-6870-4C91-946F-D366E588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01372-F391-4C62-90DF-34030BA5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CC938-F738-49B6-9818-D9DA2066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26E6C-5F2B-47C3-82EC-00EDD61E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34C44-855B-4569-8CF2-A5637666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9207-EDA2-4916-BA59-4DB47620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24133-F966-4BE6-8926-CFA503DC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1202C-529F-43C4-A435-F72D777D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A773E-030D-4C03-B7E3-6367B98E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5EEAA-C22C-40DC-8925-994CD534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D58C3-9876-443B-918F-FC6FDFB1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6F3D1-B069-4DD0-A4BC-80E7B769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6D6D0-E702-4B8B-8D55-428710B6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974FB-B6CB-43BC-A79B-EBBD2F24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6CE78-5969-4D42-824D-85112096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1937E-7535-4300-AD20-CBC88AE5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EBC4-1AC7-4416-8192-8B494A98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DC5E6-A771-4095-8DE9-10678B8B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3B8A9-97EF-45D0-91C6-EF5B1029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68D26-49CF-4A37-95AB-5BA607CF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F4D29-2C42-4746-9776-EB78F509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468F6-619E-4E5F-8EDC-2F1D9466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47EE4-C3D0-4395-B5E7-0B26C7D4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4B6AC-54F5-4D85-BB89-F7ACDDB2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04B2A-6C62-449A-82B0-E59EAB23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6C0EF-AC20-43FB-B9FC-0D55C997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D37FB-2571-4445-825E-9F115FFC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90DE-122F-4024-A9BD-3ECE9888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AECF1-2694-4519-B574-E71988A3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385BF-BC6B-4D2C-8354-4ED8FF26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31D2E-3217-4D2B-9C76-03B06B55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C27E0-4A38-4C54-9017-1D9E2AF7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80771-1C44-4D41-AC98-29C6FAF79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047C0-4E09-44C9-B8BE-6911A1CC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6F5C0-95A7-4E3F-93E4-731568FE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E4FFB-C0B4-4E18-A529-72CADA99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F3400-3250-4714-9C67-2BD484BC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088F8-4CA5-4152-9F31-145A8B2E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1AE9-EEBD-493E-9A2B-EC30201C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EBBD5-3C2C-4C4F-9185-FD3FEF74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961AC-9446-4B28-8D94-985230D1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58DEB-7E5F-4238-947A-84C6781C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19469-ADF1-4A61-8BB4-E6D91E1C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F8C53-C5D8-4112-8630-CFF3CC27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64EA9-5E8C-453F-A27C-84A44FD5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55C90-C6D0-4810-BF15-933CBB49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F8C2A-17A4-4C6C-BCB1-6C3BAF7C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A059B-FB69-4EFB-A356-D2C11963B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ACCD9-480E-41C5-8C4B-5A7CBD52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80AC-4A46-41C7-AFAC-3545A059FA3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8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9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0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A55C-1006-46CF-B3A9-CD2515352ED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C61C-D0BE-4306-A67F-12859CFE8D2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CD20-09F1-49B9-8106-489B118FCAE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577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581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585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37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38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39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2C5D-8D18-4B3A-9512-E5F6376EF15C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4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4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4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DEBA-B91C-4D11-8F9C-45FFD4F117F5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96E6-4A32-4316-A01A-C6ABFE25A37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27EB-4FD6-4240-8D81-95F38AEAF4CD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138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935F-693F-46A1-9577-B705387190A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83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7031-37BC-482D-9885-601F78A2B85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65FC-D0F8-4F16-B2E5-F854885F514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5C11-7A25-4EB8-986E-82EAE9F642A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425F-18A5-41A8-9941-B62F6729C36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6B6C-2767-4F74-BFF7-A6C6AD3C0BF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Kunstler Script"/>
              </a:rPr>
              <a:t>President Jenna Parker</a:t>
            </a:r>
            <a:endParaRPr b="1" lang="en-US" sz="7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5f07"/>
                </a:solidFill>
                <a:latin typeface="Verdana"/>
              </a:rPr>
              <a:t>Healthcare, the military, and the education for child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2" name="Picture 3" descr="healthcare.jpg"/>
          <p:cNvPicPr/>
          <p:nvPr/>
        </p:nvPicPr>
        <p:blipFill>
          <a:blip r:embed="rId1"/>
          <a:stretch/>
        </p:blipFill>
        <p:spPr>
          <a:xfrm>
            <a:off x="3352680" y="42670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673" name="God_Bless_America.mp3" descr=""/>
          <p:cNvPicPr/>
          <p:nvPr/>
        </p:nvPicPr>
        <p:blipFill>
          <a:blip r:embed="rId2"/>
          <a:stretch/>
        </p:blipFill>
        <p:spPr>
          <a:xfrm>
            <a:off x="434340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able of conten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military 1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ducation 2 and 3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ealthcare 4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redits 5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Title 1" descr=""/>
          <p:cNvPicPr/>
          <p:nvPr/>
        </p:nvPicPr>
        <p:blipFill>
          <a:blip r:embed="rId1"/>
          <a:stretch/>
        </p:blipFill>
        <p:spPr>
          <a:xfrm>
            <a:off x="371520" y="298440"/>
            <a:ext cx="8643960" cy="634032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 txBox="1"/>
          <p:nvPr/>
        </p:nvSpPr>
        <p:spPr>
          <a:xfrm>
            <a:off x="457200" y="6003720"/>
            <a:ext cx="76320" cy="457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613908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 txBox="1"/>
          <p:nvPr/>
        </p:nvSpPr>
        <p:spPr>
          <a:xfrm>
            <a:off x="8686800" y="1600200"/>
            <a:ext cx="46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31200" cy="637056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 txBox="1"/>
          <p:nvPr/>
        </p:nvSpPr>
        <p:spPr>
          <a:xfrm>
            <a:off x="8686800" y="1600200"/>
            <a:ext cx="46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itle 1" descr=""/>
          <p:cNvPicPr/>
          <p:nvPr/>
        </p:nvPicPr>
        <p:blipFill>
          <a:blip r:embed="rId1"/>
          <a:stretch/>
        </p:blipFill>
        <p:spPr>
          <a:xfrm>
            <a:off x="365040" y="268200"/>
            <a:ext cx="8686800" cy="621828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 txBox="1"/>
          <p:nvPr/>
        </p:nvSpPr>
        <p:spPr>
          <a:xfrm>
            <a:off x="8686800" y="1600200"/>
            <a:ext cx="46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637056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 txBox="1"/>
          <p:nvPr/>
        </p:nvSpPr>
        <p:spPr>
          <a:xfrm rot="10800000">
            <a:off x="8686800" y="1646280"/>
            <a:ext cx="46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8:47:38Z</dcterms:created>
  <dc:creator>200355649</dc:creator>
  <dc:description/>
  <dc:language>en-US</dc:language>
  <cp:lastModifiedBy>200355649</cp:lastModifiedBy>
  <dcterms:modified xsi:type="dcterms:W3CDTF">2010-03-29T18:50:20Z</dcterms:modified>
  <cp:revision>5</cp:revision>
  <dc:subject/>
  <dc:title>President Jenna Parker</dc:title>
</cp:coreProperties>
</file>