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262-B497-48D5-92E8-01AF4EF9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37A-35EE-4424-9A73-ACEF5303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F9B29-9205-48D8-973C-E3B89E84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D7CF6-FDE9-4541-BA92-9833EB1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1D20DC-F0DF-4F6A-A0A0-0112353E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145C2-297D-44C5-A0D2-54DBA4EA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017FD-9B20-4CED-84A9-B7144B16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CBB9D-3F0C-4D00-9E15-9A1C1096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12DBCB-5C17-4D6F-AE12-9243536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CEB14-ACBF-42E2-8ECD-0666027B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04D4F-6ACD-42CB-AF47-B80EB918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BEFCE-869C-44A4-BF81-A7A02703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AD23-6A51-485A-9BCD-7D891130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C1150-8E90-4A9A-B205-45C0FB8C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431BB-9AB1-41A8-9FCE-559D7B01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A6293-5C8F-41EE-8D7D-5FD1E09E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1BB96-B5C6-46A9-B6B2-C46DEFC6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53F94-D6A0-410E-AE6E-D2774C22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37D44-7D95-4109-91FF-4FB1A297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814F8-BB93-4694-8096-3602577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356C1-0AC0-4DCE-A909-CE5951D2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77948-724C-4A10-A770-28AF6753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F7640-FBF3-47F0-98D8-28A083596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815-105E-435A-913E-2E88B6DC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88C12-7733-453F-8AE2-0E0ADA3CF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0F659-B427-4197-BAF3-E9C80081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9BFF4-6514-4E95-9915-96740CC2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50302-BE65-42BC-9541-F2F9214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1F006-EED7-465E-AC66-7CC90F06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DE055-C973-47F8-8D7B-B6623B7E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9187A-98C2-44B8-8DBE-B197213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6FC62-0E87-4595-A3DA-CDCF437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906FC-DB33-4F19-9798-3FA1D145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AF495-CB91-4A9A-AB4D-3E2F032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7B63-AD64-413E-A821-52E2B89E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3970F-14E7-4FFF-9694-FC3A9095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CD6A8-5252-452A-AE67-BFD28581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FB229-C641-4208-A22F-E1D8F751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BFD6E-8B0E-403F-9C2B-2AE4B5C0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BECE1-AC58-4C7A-BEEE-2615FA70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AE26-20B4-4DF8-AAC2-5C47A9FB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B03CB-FF36-4B48-B884-00723A78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40DF67-2FE0-4FAF-8F24-27B693A1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F966E-1159-4110-9CFE-54B2FF64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93E73-C283-483D-9F17-0624CBB1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173-F538-41E2-A1A7-C3D63285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8CC86-756A-4F34-AC0D-E019DF79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7044-6790-44B9-BEDC-62743476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EC78C-BAA8-4630-AA76-008D27A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4F0CC-EB2B-4EDE-809B-7C9B40E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EBE58-8B0D-4DE6-A0E7-019E9A22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26F40-61A2-4A92-860C-C2CBDE2A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C4BAF6-8E52-48AD-B114-1B13269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30362-ADBC-4E5A-BE28-00A126AF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B9179-13A8-4883-9D59-B8F765ED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C6AFE9-8F6A-4CCA-B7C5-0B8AF2B8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387B-8FC4-47B2-81A1-A0A84C5EC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FC7E3-35EA-4246-A02D-242AB32F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38706-62C7-4484-8915-DBFB01CF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8BFB15-9F94-4571-A4CC-F92828AD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8B74D-A161-4BEB-B6FC-DDF8B338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F564F-3E73-4060-8C29-7B13AA3F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21605-C677-48D8-B860-D7866AB54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828D2-6108-4D57-959D-BF6FB725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F79A48-A989-4C5C-9159-8030FB29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6D97A7-25E3-4661-AD32-E6CFD901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AF893-EF91-41C0-A026-C4774E20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5C01-FACE-43FD-86BC-43CE21BF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59E4D1-10EC-41B9-A53B-BDD7CF0D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76511-A7CF-4365-928F-11B8CA64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25C703-235B-4A66-89FC-57519F13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D4E8F4-43CE-43C4-B8FE-8DB72FD7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7095D-2FD9-4FD9-8F57-2C4E2D29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AE58EA-E01E-4E7A-9CC9-D391BF8B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897B8E-1D5A-4340-8C82-BDE02504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40A892-96DE-46CD-8413-B21D90B3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587C0-500D-4A20-87DF-4E9FE2A0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2136-C8FA-423A-AD42-B098101B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BD3B-E0CE-4E91-93A0-C8F4C6B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D9B-D8EC-408E-863F-DE8F95CE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BD5-CC40-4E6B-BEB4-4B9182E2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CE25-C81B-4068-BDA4-2ACB4F05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826A-35D4-42DD-86B9-E08B6D84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C834-CBE5-4AE4-8565-693CE4D5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4EE9-FD61-4F73-9339-7FBF7DDB6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B849-1E75-4DEF-90E1-F554C796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58BA-C944-49C9-8731-6B4389D2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19032-90E4-472E-BF0B-786E6C7F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840DD-F0DB-4BB9-A162-409E3717E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475F3-7214-4200-8D05-0CBBA345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46F4-C549-4293-9E0A-93C34C95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6B8-315F-47BB-B448-9961484C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CB68C-BCCC-469D-8CE0-5558AC2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FE7D-2839-469F-B2C3-70659E4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C2CC-81BA-4DA0-AFD8-4E45FC58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A9AB1-1758-4363-9E1F-C3E754FD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8CAE-0C90-4C85-A6E3-A8E5B1B9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BB8DB-3194-4E75-80BB-8D84EF17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3FC35-4EE1-40D7-BE6E-1272381A3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A207-6ED7-45FB-95F7-737A0D97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F8BD7-D6B7-4041-908F-953A1C53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4E27C-00A9-4F3E-BDA0-7727389C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BC1-FCB2-46F8-BADE-798D7C07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8A473-8FBE-48E1-AD93-74399263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49F1-5339-414F-B45B-0906A56B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9A4E8-73D8-4A52-849B-EC09A40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84D8-E392-4CEC-A3BF-EBC6E4B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D0D95-D6F2-45AC-AFA7-4081873F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82655-C012-441E-AB7D-0E57E64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8AE4-3F17-4C30-8EF2-E1F1C8EF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11550-7A3D-4D5C-BB2C-D7F5DA6E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B55CE-C1F8-477A-83B7-159AA78A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318F6-D185-4662-8F1F-2F7FC8F7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F985-2041-4EE2-960A-39EBDD1E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DF0C-DB9A-46BD-A642-89A9C5E3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85E16-D6E6-487A-B3F1-6DBA599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45884-3810-41D0-8387-10C82D9FF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9353-6980-4D74-BB93-5BD9466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8E1E3-516E-4C2A-BB89-87B1C7C4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12D6-252A-4D6E-835E-FAA0A75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A65E-8452-4086-9251-A0519B0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CBE0-8D55-4EA3-98B3-7050FF13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A8A7E-C846-4C11-AD83-F3FDE588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09890-350B-4205-ACCC-25DF3D94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37D-B553-4545-A8E3-773666A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6AF5-1B16-4C0B-920F-552AC95C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792A9-B06F-43A4-AFCB-86DE248F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301A-9636-44F3-8EBD-D729054E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31FA8-1070-4CC5-B143-795B6C24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0B4F5-959A-412F-AE96-3F62672E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3C812-DED1-4725-9E71-42FBC69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3DF8-0CB9-4429-B435-75A8AF36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B89DE-FC5E-4E93-A849-7B23B17D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5ABDB-2CF5-4A5F-A37E-B63ED528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324FE-3F78-4BAF-8460-3DFA8F80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D1E-FB01-4BA4-A7FE-8B6E67F3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724A1-507E-42F1-932E-AC5B31E5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C6E4C-EEEF-405F-B66A-2BD75D38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DA851-AF2C-4B11-813D-CE4A5D246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4DE61-31F2-45D4-BFF0-46133295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719B2-B785-411F-96A8-A35505D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7E5D-FF82-42C1-9A12-6EEBD77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28DF5-815B-4437-AA47-3B529733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3CA81-8F46-42B4-B8B7-2DF68774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4B8FE-C9B2-4540-A2F1-7981943C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9CCE-96C3-4833-8354-A20E3C6C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4DA-F64F-4E2C-ABFE-B22A30B5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F3AD0-0A08-46D0-B0F4-4DC52C87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B55B3-7635-4E6F-94A6-E966F5EF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7B2F4-61B2-40E7-9E43-2F6878FE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DDC19-C102-4DF4-A5AA-456C0362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68844-D42D-42AC-9838-0B52EBFE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8E41D-2DD9-4B25-B36E-038942E01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F28E6-24A6-4FFF-92CC-C37990A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62B99-365A-44B0-B034-CEE27073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15C5-F452-4D8E-8415-30422F6A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3DF4F-8C7E-4F1F-A6B2-AA48FB12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841-179A-4FE0-A6FD-426A2E73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BE01E-11A7-4B44-8762-AADEFBB0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00C44-D933-45EA-BA7B-8C72F0CD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29F58-D85B-44B0-B125-C1374A06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334C5-8BB0-412C-84B8-8E179DDE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9A73B-7044-447D-8C22-82A24AFF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5252-6B2E-4B81-8C09-61B207CF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6A77E-B370-4384-BADD-B66D0501A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BE836-9B0D-40BF-B813-093DEAF3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78516-311B-4D54-B285-6EE08DBE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1E71D-D384-4834-BF82-035FAB61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EB6E-C1C2-45A2-A509-8856CF7B4AC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FF0-A302-48BC-AB63-179A22DD072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8EF5-DA57-4A8A-BBCC-4A687CBA450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45C5-78B7-4F2C-89B8-7752E0777CCF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577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581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585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7ADB-F565-4A95-8CB4-E407A589DE3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F304-63FF-4A72-98F6-C490F98C9674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A05D-FBDD-4241-ABD3-69430828A00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7A64-6E62-4A81-8244-5EB83B06059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3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7791-7B0D-4082-822A-448F496A7E5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3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B2FC-34B4-4DCD-91EE-E07CC6F6EB2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EEFB1-4C31-443B-A179-02A47D59028E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8E82-3CB6-4A15-88AB-075AEE55B4D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CDE0-9CF1-461B-AFE9-E3138B9AAC0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C435-F4D2-4270-BAE5-73508F5B218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Kunstler Script"/>
              </a:rPr>
              <a:t>President Jenna Parker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5f07"/>
                </a:solidFill>
                <a:latin typeface="Verdana"/>
              </a:rPr>
              <a:t>Healthcare, the military, and the education for child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3" descr="healthcare.jpg"/>
          <p:cNvPicPr/>
          <p:nvPr/>
        </p:nvPicPr>
        <p:blipFill>
          <a:blip r:embed="rId1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673" name="God_Bless_America.mp3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able of cont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ilitary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 2 and 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althcare 4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dits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le 1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643960" cy="63403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57200" y="6003720"/>
            <a:ext cx="7632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390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1200" cy="63705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itle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686800" cy="621828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3705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 rot="10800000">
            <a:off x="8686800" y="164628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47:38Z</dcterms:created>
  <dc:creator>200355649</dc:creator>
  <dc:description/>
  <dc:language>en-US</dc:language>
  <cp:lastModifiedBy>200355649</cp:lastModifiedBy>
  <dcterms:modified xsi:type="dcterms:W3CDTF">2010-03-29T18:50:20Z</dcterms:modified>
  <cp:revision>5</cp:revision>
  <dc:subject/>
  <dc:title>President Jenna Parker</dc:title>
</cp:coreProperties>
</file>