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50B-1A36-4788-B5E7-FE442187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B8BC-30A1-4ADA-A0DD-F659DE43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D48ED-F876-4B6A-B1DC-95C9AC33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D3F6C-0C1E-443F-9172-533993F3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BD59C-3E6D-42CC-A030-D5AF15F8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F3F2A-2654-4702-A267-697CC561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96673-60FC-493C-9F4C-D5105EBC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8AA61-9278-4FE0-A81A-CCD5512C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EA8DF-A3B4-4765-AA68-261CDC9F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8E2663-43F8-4B81-B3B9-37ED7384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965D6-6B61-4D51-9908-0321BA734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A42BE-66B0-480A-98F0-A6C4B9CF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41B5-3AC6-464A-B02B-82A168B0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0355D-84FF-4AE1-8694-2B58EA75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035D4-3D0F-4450-AAE1-B7A151E1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B25FB-1C98-4813-860E-F376111F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0AA3E-175E-4C67-9012-B61E04B3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844F2-EF22-4BAE-B99C-EF6AEF8A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3C741-6992-4E1D-A31E-50423A01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0464F-DB53-412B-8D29-F3744CAC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77B77-56B0-443D-BA84-946DDED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89542-184F-43E5-8B31-91701D9A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1E4A8-42B7-4A5D-A303-F16F768FF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7A2-DE29-4C7F-977D-B919A223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0642D-5109-4D13-A417-F5BAF035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9C47A-0B07-4FDF-9C7A-B6C3C370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293C7-1647-4033-B4E4-E63315CE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DBD85-4126-4639-BFEF-50AD0530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B7330-5F1D-413B-BE99-DAB7215B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0E8F9-5B90-485D-B611-CABF7592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800B8-9DBE-4F20-B526-3EEE2CCC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A49AB-EE05-46FB-884B-1BB60E80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78A56-976F-4D84-99A3-30E5DBE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AEEB2-C277-449E-8020-641C06E9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4B7A-67F3-4D20-89BA-2BC6396F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1C18B-09EF-45F5-B6AD-42CC21F6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1B64D-FD2E-4FB0-B41D-A975C3A6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E4F85-6EBC-4842-9798-77F31E29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595D0-D16B-4D9B-988E-42FB0011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A7A6B-EAD5-4437-BF99-A23090D6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B900F-F573-4D53-AD2E-67B44102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AB5F8D-5173-4E95-B05D-693D7CFE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006D7-15CB-4CE1-A1A8-24C0CDC8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A6714-8E54-4459-8F83-5552735D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AEB17-B5EB-467D-92EB-C7C8A45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0947-D224-4DD0-99EE-3A79CF0D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152B1-1042-4E6C-BDFD-7B694ED0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B8F68-E22D-491C-A85A-9D7CB01F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5E29B-C984-4A5C-A9BD-932351D6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53760-D5A5-42DE-AEB0-4EB363C43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DB911-2669-4EC1-A845-719C2316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5F2BF-0B52-4F4E-84F1-54A0D12A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9F841-FC11-4571-9158-7419123D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6C1763-F54D-477A-943C-134EC784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3AD2E-486F-4B37-911E-AE0070BC3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5350A-47E9-420A-AB28-7771B45F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B9E3-4ABB-4CDC-B13A-59824759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B2705B-BCF6-4FA8-BE15-87954931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F932F-D014-406D-914F-D26CCF8C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FF1F5-CBAE-4C38-BAB9-A7858802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242CE-F761-4109-AE2E-C0F5F555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A59DB2-39BC-445F-B324-6EA26A14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2AE540-9D44-49B6-AC9F-392FC7C9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EF0812-E2C3-442F-A12B-726C26EBD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9CA85-FAB2-4BE2-95FC-77993E59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B3536-47DA-4032-9BEA-DA6D2CA4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13157-6B38-45F1-99C1-CBB665B9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38702-3D01-4192-822F-7A8E968E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9DBAD-DB69-4404-A12A-093C31D3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8FD45-DDAF-4CE2-8BF8-D4213BA1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43E039-CF52-4607-8786-8C5C44B6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DB8DE-9507-4A32-A22B-AE1ED695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2A779-30C9-4ECC-99ED-D0AA3ED9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909F2-4860-43CD-9B04-C3C3E407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79E7F0-528A-4A21-9361-FDF04DC2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D80D8-3C0A-40AF-BC7B-AA91AB4D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1F5C9-F8EB-4643-8422-8A98B243F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6FCB-EE8E-433E-9565-5F936ED9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B45E-5196-4CFF-BD61-76401EBC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7E6D-E7EE-4D23-9641-19B9752E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7B11-B23E-4791-8B8D-F2C010AD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8A8A-777E-405D-AE0B-E08D5E9E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732B5-C8D3-4D23-BF9C-98DDE3C2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2174-823E-4519-A407-5EC9CFD7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3143-729E-4C40-9068-033C176E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851E-181D-47F5-A420-9A387243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E78E8-0497-40B9-9668-C64DBA5F3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3262-9960-4F9D-AF86-06F66163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F3AB-004E-4620-AA9F-6943A68D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50785-A61A-41AA-9B7B-08A48BD0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C9737-2E80-4CDD-B81E-6B482881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5E3-6DE6-4F9D-89F3-FDC9FDE2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9E9A4-5325-4C9E-8967-B25F0AF8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895C6-A05C-45A3-8619-0C3AC8B0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25546-05DA-4964-8DE5-254232C0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90E06-E6AC-4562-8B4C-EF5A1674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E8EA-F6DB-432E-9F6A-699393AF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FB458-BC1D-4590-99B9-77E09DE2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19C2E-BDE7-41B0-A585-B4E35251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969F-C6FD-41BE-9356-2DA4DFA51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AC880-7069-495B-A5EA-B3AE5A4E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1F97-95EF-423A-B6DB-D0BE01A6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777-8FB6-4FBB-A07E-7D786C3A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03919-295B-4CE7-8237-A2A77B0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3574-E4CD-4A30-9E9F-C1C56F8C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A88E8-B53A-4F03-866A-AC654F30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BF46C-288D-4F44-B900-1660E9C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0131-46D7-472A-AA03-91F07DAB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A9688-820C-460C-A77F-016E62B4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1456-D084-450A-A698-8C61A8CF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51DC-8231-4639-A4A4-E83A286A6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B013C-BCCB-4E20-9239-67CA9741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83469-8C99-40D4-8520-A5EB70C2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CA3-E374-472B-9FAA-88C4F345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EBF51-96B7-405E-8BE1-6E4507BF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A80D7-E383-4824-8B68-43E4A369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7927E-6FB6-455A-BA4D-BFB83C74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706D9-2B82-4133-B0E7-3EBC992C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180D1-B487-4318-B7A3-14F68088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8B91A-F0EC-4C62-9928-FDDF1555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FD49E-4D96-4D47-ABA5-53DA0D1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490D4-BCD4-4BEE-8ABE-347B26F3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0BC35-B321-4DC8-9003-58CEC344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2CFEC-CF33-4C90-BCC0-F82482FC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66AB-FE92-4051-9BA3-5A64F654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4E1B7-A76F-4373-ACA8-E74EC559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00D70-4C20-497E-9FC1-04E98682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1B36A-79FF-43B1-90DD-48F0D755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B07D4-7707-47B4-8631-66240C75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ED639-9189-4F0A-9A79-150B85F1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620B-34F2-4040-A046-8B56D34C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77C1B-A3A8-49FD-9C8E-6EE0C2D1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D9931-7747-450D-A6E7-0591EE0A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189A3-B896-4923-96E8-1F1F1EA7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12C89-0F8A-4BB1-9235-529D63E8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610-BD20-40B2-8CA0-0DFBC7A0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FD8BD-4A10-48FD-B298-40B5BC74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CDFB-604A-4778-A81B-67E18008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B90C5-8470-490E-95FA-EF61D95A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AAB06-3B88-490C-906E-6FA38EAE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327B8-F52B-497C-89B4-5D7D4536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24D30-76F3-441C-A8A7-DF210718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D2B55-FD73-4DE7-8790-47C26D38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8CFC4-AAF1-4287-8E66-5FFB4A21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A492E-BB44-4D04-B7E4-C810CD36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7A5B8-5760-438E-AFBA-0AF8F9FC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BEB-C5F1-43B6-BC8D-0A2CBDAC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A1C55-B662-4C45-AAEB-08079CE2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DC96A-7845-4217-9ED5-577CA070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84388-614F-46C3-A1CE-23C462C4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27FD4-CCDF-4EF9-9853-24543C56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CA1A-8E0A-4D61-974B-96C02C69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E6BA1-5164-485B-9C95-975907BE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C95F1-DFC0-4D84-BF42-E8CBD850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B3372-7CEA-4F3D-B2E0-63643954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ADD05-8BE4-45B9-993B-521EA633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29BEC-9363-4663-9ACB-799E023E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101-E782-4001-815C-0461F245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F1F9C-7D21-4919-BDCE-8E2435E8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16992-F661-4C16-8ECB-98C44678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2A19B-7957-4E62-B4FE-99BA06F3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C5328-6ECE-4320-8F4A-BBF66B1F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09EF5-5DE0-4D55-9C55-F2673646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DF008-9C92-447D-AC41-6D96410E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839C4-B627-47D3-BACA-497F88BDF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147CC-9989-491A-8F98-C39AE288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049CA-3386-42EC-84E7-6CB5795E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CCD08-FEE8-4151-9EF9-39AF5BC7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2791-6717-41D2-A3A2-81207906131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7687-3FA0-43BD-AF47-AC46930F0E3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65DF-60CB-486A-93CF-35BAD851513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9A8B-C39C-40BF-AE54-CFE9B93F98D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577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581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585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37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38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39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8E0D-93F7-4704-9AFA-CEED094079C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E27A-C350-4291-A643-FAAB73846BB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FE5E-2E7A-430A-B60A-ED296B23592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1533-A865-4C57-8A63-2A23862BA73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38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8EE4-2138-45F9-9106-0ADB37C020C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3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39A0-7F16-45EC-927F-2C411DBFF61F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BFCA-740D-4CED-A3A7-7C746ED23D7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FDDE-666E-448C-AA96-74DEE02BC2D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6001-B29D-46A7-8447-2D4E2BE0A05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A0AC-34F1-40F7-BE83-31C0170E43D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Kunstler Script"/>
              </a:rPr>
              <a:t>President Jenna Parker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5f07"/>
                </a:solidFill>
                <a:latin typeface="Verdana"/>
              </a:rPr>
              <a:t>Healthcare, the military, and the education for child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2" name="Picture 3" descr="healthcare.jpg"/>
          <p:cNvPicPr/>
          <p:nvPr/>
        </p:nvPicPr>
        <p:blipFill>
          <a:blip r:embed="rId1"/>
          <a:stretch/>
        </p:blipFill>
        <p:spPr>
          <a:xfrm>
            <a:off x="3352680" y="42670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673" name="God_Bless_America.mp3" descr=""/>
          <p:cNvPicPr/>
          <p:nvPr/>
        </p:nvPicPr>
        <p:blipFill>
          <a:blip r:embed="rId2"/>
          <a:stretch/>
        </p:blipFill>
        <p:spPr>
          <a:xfrm>
            <a:off x="434340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Table of content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military 1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ducation 2 and 3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Healthcare 4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redits 5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Title 1" descr=""/>
          <p:cNvPicPr/>
          <p:nvPr/>
        </p:nvPicPr>
        <p:blipFill>
          <a:blip r:embed="rId1"/>
          <a:stretch/>
        </p:blipFill>
        <p:spPr>
          <a:xfrm>
            <a:off x="371520" y="298440"/>
            <a:ext cx="8643960" cy="634032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 txBox="1"/>
          <p:nvPr/>
        </p:nvSpPr>
        <p:spPr>
          <a:xfrm>
            <a:off x="457200" y="6003720"/>
            <a:ext cx="7632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1390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 txBox="1"/>
          <p:nvPr/>
        </p:nvSpPr>
        <p:spPr>
          <a:xfrm>
            <a:off x="8686800" y="16002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31200" cy="637056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 txBox="1"/>
          <p:nvPr/>
        </p:nvSpPr>
        <p:spPr>
          <a:xfrm>
            <a:off x="8686800" y="16002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Title 1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686800" cy="621828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8686800" y="160020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637056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 txBox="1"/>
          <p:nvPr/>
        </p:nvSpPr>
        <p:spPr>
          <a:xfrm rot="10800000">
            <a:off x="8686800" y="1646280"/>
            <a:ext cx="460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8:47:38Z</dcterms:created>
  <dc:creator>200355649</dc:creator>
  <dc:description/>
  <dc:language>en-US</dc:language>
  <cp:lastModifiedBy>200355649</cp:lastModifiedBy>
  <dcterms:modified xsi:type="dcterms:W3CDTF">2010-03-29T18:50:20Z</dcterms:modified>
  <cp:revision>5</cp:revision>
  <dc:subject/>
  <dc:title>President Jenna Parker</dc:title>
</cp:coreProperties>
</file>