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6090-32B7-4731-80B0-EE529079A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226D-A742-4FF1-BE7C-940C6F81C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39FE-A9A7-479B-BC39-7D9DFBA6F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A5B1-AE18-45CD-AEE0-32BEE91A0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EBB2-DDD2-4A95-8DCE-DF870D3D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E484-6C61-43C4-BBDD-CF93532F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781C-EA1A-4176-AEFE-5DA086ACB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1BDF-3BF0-4A72-8CDE-C063FC4D9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899E-2F97-476D-B54B-711236FE5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0DD-44E4-4B24-9FC3-40FAE2EBF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0FA5-489E-4F2B-82DC-31EDFD94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8AD-E3C5-462C-ABC0-59B5EAC4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C09-37AE-4069-9EC5-58D9FC23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A23-7DD2-4030-B0BB-4D172E52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913F-94E7-4FDC-A3B0-7F35A352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2CA0-A791-4809-9DAA-9BFB67D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A0E8-CEAB-4A31-B920-DC35CD73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8289E-95F3-4355-8031-0ADB833F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9899-D4B4-43AD-B296-D9F6D2D9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0DC3-6C85-49D1-B068-32169048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453-1991-4254-BA8A-5A4AC13A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FC32-B3A2-46A5-848B-73E87FD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38E2-20D0-4846-84B0-D53D51C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89A-6263-4FD4-AA51-9F3F46A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AB3A-3B28-48A8-B8CA-F01E549F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06EE-F48E-4BE8-8C93-804BAFBB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F4F-0C53-412B-BE28-6ED8803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43B4-FDD1-4900-A2FF-6EC29102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CB65-D054-47D0-B59C-174AFE2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B57-F3BA-4BBD-97DE-995F871D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C6CB-30B8-4821-AE20-8A93521A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B87-1F2C-4B87-B751-C8D2567A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7CE8-8B0F-4938-BD79-CB8EFB71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7128-7C7E-4527-BC08-04F3EC2D4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58AB-E907-4A14-B91B-430C2982F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6</a:t>
            </a:r>
            <a:r>
              <a:rPr b="1" lang="en-US" sz="3600" spc="-1" strike="noStrike" baseline="30000">
                <a:solidFill>
                  <a:srgbClr val="006666"/>
                </a:solidFill>
                <a:latin typeface="Tahoma"/>
              </a:rPr>
              <a:t>th</a:t>
            </a: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 Grade Probe Language Art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941200" y="2704680"/>
            <a:ext cx="5248440" cy="11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Hous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y Elizabeth Gar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The Year At a Glanc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tings from LMS—a community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ir—multimedia autobiography expl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rison’s SBDC (small business development center)—a research study of economics and technic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a Hero?—literature response and biography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’s Fury—a research, novel response, geography, and technolog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Uni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Chefs—technical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a Wars: A Documentary—propaganda and 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rlem Renaissance—a research and poetry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the Best Author?  A class debate activity using favorite authors and the clas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story of Board Games—a CRCT review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ppetry and Traditional Literature—myths vs legends and the imov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Uni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:  Ecological Mystery Investigation—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Ten List—class debate and persuas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the Honeybees!—a class community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Grad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re weighted according to the following sc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omework-5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uizzes—30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sessments—40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lass work and small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jects—25%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s are emailed e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605640" y="223920"/>
            <a:ext cx="213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091200" y="2108160"/>
            <a:ext cx="2362320" cy="33343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Grading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-10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-8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4-7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3-70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ow 69%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es are are rounded up whenever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y Pledge to Studen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trust you until you give me reason to do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respect you and work with you to solv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promptly correct and offer feedback on your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work with you to meet learning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ill offer extra help and alternative assessments should you requir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udent Behavior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e ready to learn when class begin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Have materials with you and know due date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olite and positive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eak in a normal tone of voice, and listen attentively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urn in work on time, and always do your best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oblem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rrect problems quickly and peacefully before they escalate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how Respec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yourself. Be honest and ethical, and practice strong moral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 all members of the school community and all visitors with politeness and resp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the ideas and opinions of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to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responsible with property and belong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Responsibility for Coursework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120" y="1395360"/>
            <a:ext cx="6735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notebook, textbook, planner, and appropriate writing tools to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due dates, and submit all coursework on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ssignments are posted on the bulletin board and on the class Web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Promote Lifelong Learning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evelop lifelong learning tra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showing curiosity about human nature and how the world work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seeking and valuing diversity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persisting in seeking out new solution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using your unique talents and intelligence to promote positive change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y learning and applying technology tools to solve problems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Language Arts Gifted Education Program Goal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ducate gifted and talented students so that they may achieve excellence in Gwinnett County Public Language Arts 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cademic advancement through the use of GCPS AKS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courage gifted and talented students to reach a world-class standard in their individual level of excep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andards for Probe Language Ar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ifted students wi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more often with composition, creative expression, technology, presentation, performance, or demonstrate a more complex response to content than their chronological age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tly use analysis, synthesis, and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convincing evidence of creative and/or advanced th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ore Standards for Probe Language Art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d more quickly than their age peers to new concepts an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ed at a quicker pace in obtaining complex concepts or solutions than their age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more frequently and for longer periods of time with topics, problems, and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more often in the evalu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complex interrelations of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Materials you will need for this class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ividers in your binder (writing and re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writer’s notebook (diary, journal, composition book, or spiral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or colored copy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, disk, or flash drive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fade thruBlk="true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4:26:04Z</dcterms:created>
  <dc:creator>Mary ELizabeth Garrison</dc:creator>
  <dc:description/>
  <cp:keywords/>
  <dc:language>en-US</dc:language>
  <cp:lastModifiedBy>e200400786</cp:lastModifiedBy>
  <dcterms:modified xsi:type="dcterms:W3CDTF">2009-08-05T14:20:00Z</dcterms:modified>
  <cp:revision>16</cp:revision>
  <dc:subject/>
  <dc:title>6th Grade Probe Language Ar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