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D156-D6DB-462D-AF48-1F0F9BFF8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2569-92F4-4301-8831-DD6964798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053E-3F0F-4BEA-8F46-748224672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E3AF-2432-4631-A21B-65900CE74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4276-DB6F-41DE-9B55-08DFE982A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1E2B-43A6-4DCA-90AA-35C1E1406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5F81-9FA0-4AC3-82EF-9848D9AF5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87BB-D5E0-4267-A689-4C67B7170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98CA-84E5-412C-8C38-9F5E334A1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133-B6F1-48FE-A722-6F348CB3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3A7A-A06E-4EF1-874D-41207568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4B74-33BB-441B-AE31-DB238F4D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8D02-B73D-447A-9309-1AA3A59F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1E6A-06F6-4310-ABA1-F732D8B8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ABC0-5008-4950-909B-DE18951C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EFBA-B3C9-4390-A7A8-4037ECF7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4A99-06D5-4FEA-84E5-DBB953E3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1289-02F1-438C-997D-F3091317A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43E4-BAA3-4173-ABDB-3EC20831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BA8E-7167-4E45-A671-53F96CBE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A4E-A081-4CEE-8D69-01F12FDF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3E86-758C-4ADF-8A51-E65A2D9C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D93B-5EAB-422F-8464-66E0633B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755E1-319E-4FB8-AE60-E77F2711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B6BD-4122-4B91-A64A-EFEC1E87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3D4A-A2F2-44DC-B8BD-E17E856D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E6E6-62A4-40F7-858E-6BEBBFE5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61B-698E-462B-ADE8-9952A994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9457-78BB-4007-8582-DA45390D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6F53-D57B-4133-AA9A-8831EB17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9D4B-F598-4363-9171-A664B99F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744-5474-415C-902D-80D4A0DE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7E50-F1D9-471A-AA96-3591D55B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E62D-79A3-4BEA-B42C-9C6411BDA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AA47-C8D4-4862-A466-5EC19FB0A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14320" y="133956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6</a:t>
            </a:r>
            <a:r>
              <a:rPr b="1" lang="en-US" sz="3600" spc="-1" strike="noStrike" baseline="30000">
                <a:solidFill>
                  <a:srgbClr val="006666"/>
                </a:solidFill>
                <a:latin typeface="Tahoma"/>
              </a:rPr>
              <a:t>th</a:t>
            </a: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 Grade Probe Language Art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941200" y="2704680"/>
            <a:ext cx="5248440" cy="11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Hous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y Elizabeth Gar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he Year At a Glanc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tings from LMS—a community 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ir—multimedia autobiography 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rison’s SBDC (small business development center)—a research study of economics and technical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a Hero?—literature response and biography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e’s Fury—a research, novel response, geography, and technology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More Unit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n Chefs—technical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a Wars: A Documentary—propaganda and persuas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rlem Renaissance—a research and poetry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e Best Author?  A class debate activity using favorite authors and the clas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story of Board Games—a CRCT review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ppetry and Traditional Literature—myths vs legends and the i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More Unit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:  Ecological Mystery Investigation—a surpri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Ten List—class debate and persuas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the Honeybees!—a class community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Grading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s are weighted according to the following sc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mework-5%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izzes—30%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ssessments—40%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lass work and small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ojects—25%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s are emailed e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605640" y="223920"/>
            <a:ext cx="213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091200" y="2108160"/>
            <a:ext cx="2362320" cy="3334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Grading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-100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-89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4-79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3-70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ow 69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des are are rounded up whenever pos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My Pledge to Student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ill trust you until you give me reason to do otherw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ill respect you and work with you to solve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ill promptly correct and offer feedback on you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ill work with you to meet learning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ill offer extra help and alternative assessments should you requir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udent Behavio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pro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e ready to learn when class begins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ave materials with you and know due dates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olite and positive particip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peak in a normal tone of voice, and listen attentively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produ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urn in work on time, and always do your best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oblem 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rrect problems quickly and peacefully before they escalate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how Respec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yourself. Be honest and ethical, and practice strong moral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all members of the school community and all visitors with politeness and resp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or the ideas and opinions of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to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responsible with property and belong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Responsibility for Coursework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120" y="1395360"/>
            <a:ext cx="6735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 notebook, textbook, planner, and appropriate writing tools to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due dates, and submit all coursework o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ssignments are posted on the bulletin board and on the class Web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Promote Lifelong Learning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evelop lifelong learning tra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y showing curiosity about human nature and how the world works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y seeking and valuing diversity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y persisting in seeking out new solutions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y using your unique talents and intelligence to promote positive change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y learning and applying technology tools to solve problems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Language Arts Gifted Education Program Goal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ducate gifted and talented students so that they may achieve excellence in Gwinnett County Public Language Arts 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academic advancement through the use of GCPS AKS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courage gifted and talented students to reach a world-class standard in their individual level of excep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andards for Probe Language Art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ifted students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more often with composition, creative expression, technology, presentation, performance, or demonstrate a more complex response to content than their chronological age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tly use analysis, synthesis,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convincing evidence of creative and/or advanced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More Standards for Probe Language Art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 more quickly than their age peers to new concepts an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ed at a quicker pace in obtaining complex concepts or solutions than their age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more frequently and for longer periods of time with topics, problems, an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more often in the evalu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complex interrelations of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Materials you will need for this clas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ividers in your binder (writing and re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writer’s notebook (diary, journal, composition book, or spiral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or colored copy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, disk, or flash drive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14:26:04Z</dcterms:created>
  <dc:creator>Mary ELizabeth Garrison</dc:creator>
  <dc:description/>
  <cp:keywords/>
  <dc:language>en-US</dc:language>
  <cp:lastModifiedBy>e200400786</cp:lastModifiedBy>
  <dcterms:modified xsi:type="dcterms:W3CDTF">2009-08-05T14:20:00Z</dcterms:modified>
  <cp:revision>16</cp:revision>
  <dc:subject/>
  <dc:title>6th Grade Probe Language Ar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89511033</vt:lpwstr>
  </property>
</Properties>
</file>